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9CD23-82BD-44D7-B330-AA5BC89AA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916CC-3892-410A-A669-C6353D24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42744-CBB4-4FFE-B151-62DAFF37D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72FF2-347D-4258-9419-C168F2603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A9FB-5CDF-42D0-BA5E-6F6AFCE17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FEF9-5D08-44E7-ADF3-FD6BD074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F233-F9E5-4AB6-9E09-F0194CE0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4936-22F8-46F1-AFCF-BEEBB437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990F-D67B-4A9B-9197-E924AFE0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1443-1E7F-4B9F-ADCF-461C5779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7575-FA80-4A06-9436-BAF8987D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26700-92FA-4F72-B3E7-A80D2BDE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11B5-6DFD-43AE-B4F3-19002D73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8742-7511-4AEB-8CFD-DE1D8F0A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A730-EE63-45BE-B526-B44E09B7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3B5B-38E4-4FE0-B419-6533B809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C34A-00A6-42BD-99AC-4CF67F0E0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091BF-38ED-4E8A-8419-C4FF42D2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B77B6-C8BD-4114-BD8E-665BA4BB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7E29C-7E80-4BAC-99CB-0E0014ED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B933D-E83E-4E05-9308-D4E68C35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CD9D5-BE18-4B64-B31B-97BA07E8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E327B-5D5F-4CA3-A900-535A12CC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E6DA5-0D96-4ECD-BC54-2F289111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7B6D-DD4E-45CF-A8BB-B8764F3E57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3F46-D292-44A1-A1B9-E4A68B72F3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Mass Relationships in Chemical Reac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6BB7-E796-43EE-A5A9-A3B56365B3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-252360" y="692280"/>
          <a:ext cx="8892720" cy="3415680"/>
        </p:xfrm>
        <a:graphic>
          <a:graphicData uri="http://schemas.openxmlformats.org/drawingml/2006/table">
            <a:tbl>
              <a:tblPr/>
              <a:tblGrid>
                <a:gridCol w="493920"/>
                <a:gridCol w="450720"/>
                <a:gridCol w="7948080"/>
              </a:tblGrid>
              <a:tr h="85392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What information would you need to calculate the average atomic mass of an elemen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 The number of neutrons in the ele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 The atomic number of the ele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4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The mass and abundance of each isotope of the elemen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3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 The position in the periodic table of the ele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AB2DF-FA19-4E69-8F59-B49901A4D6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theoretical yield of Ti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trate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: Masses of two reacta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ing reagent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sses of reacta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reac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reacta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to calculate the moles of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produc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s the less number of mol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limiting reag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produ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grams of product (theoretical yield of the produ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482920" y="1484280"/>
            <a:ext cx="5976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ي بمعنى اخر: احسبي وزنه التيتانيوم الناتجه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3BEA7-BD4E-44CC-868E-5F7B47DDA898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468360" y="620640"/>
            <a:ext cx="8351640" cy="51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ams of TiC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s of TiC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s of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 rat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TiC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97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ol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n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(Ti) =1.87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593640" y="1268280"/>
                <a:ext cx="752472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iCl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0FEC1-EE54-47A7-80B9-2483FC208D1F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468360" y="620640"/>
            <a:ext cx="8351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ms of M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s of M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s of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 rat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mole M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mole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64 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o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?n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482760" y="1197000"/>
                <a:ext cx="774828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1374840" y="4508640"/>
                <a:ext cx="5816520" cy="11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E72B3-CC92-45B2-B614-183AA2E98185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539640" y="476280"/>
            <a:ext cx="806472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n(Ti) is the less number of moles (limiting reagent) = 1.87 x10</a:t>
            </a:r>
            <a:r>
              <a:rPr b="0" lang="en-GB" sz="3200" spc="-1" strike="noStrike" baseline="30000">
                <a:solidFill>
                  <a:srgbClr val="a50021"/>
                </a:solidFill>
                <a:latin typeface="Comic Sans MS"/>
              </a:rPr>
              <a:t>5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s of Ti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rams of 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</a:t>
            </a:r>
            <a:r>
              <a:rPr b="1" lang="en-GB" sz="3200" spc="-1" strike="noStrike" u="sng">
                <a:solidFill>
                  <a:srgbClr val="a50021"/>
                </a:solidFill>
                <a:uFillTx/>
                <a:latin typeface="Comic Sans MS"/>
              </a:rPr>
              <a:t>mass of Ti = theoretical yield of Ti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= m =n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1042920" y="3933720"/>
                <a:ext cx="723276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lx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34673-234A-475E-83E9-155E1301F391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468360" y="457200"/>
            <a:ext cx="82803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Calculate the percent yield if 7.91 x 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Ti are actually obta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1066680" y="1773360"/>
                <a:ext cx="6910560" cy="28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rPr>
                            <m:lit/>
                            <m:nor/>
                          </m:rPr>
                          <m:t xml:space="preserve"> yield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ctual yiel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heoretical yield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7" name=""/>
          <p:cNvSpPr/>
          <p:nvPr/>
        </p:nvSpPr>
        <p:spPr>
          <a:xfrm>
            <a:off x="468360" y="558972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H.W. Solve the practice exercise p1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2FCE9-A452-4E77-9993-1877855367B5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2556000" y="220500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nd of Chapter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A5AD9-5E09-4871-9903-17406FEB1DB3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476280"/>
            <a:ext cx="84978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2009a7"/>
                </a:solidFill>
                <a:uFillTx/>
                <a:latin typeface="Comic Sans MS"/>
              </a:rPr>
              <a:t>Example 3.1 p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atomic masses of the Copper isotop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re 62.93 amu &amp; 64.9278 amu, respectively. Calculate the average atomic mass of copp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692360" y="1916280"/>
                <a:ext cx="547056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B0C8E-672F-442D-A6AF-F9B075ACE0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920" y="333360"/>
            <a:ext cx="8893080" cy="61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09a7"/>
                </a:solidFill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rcentag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rac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69.09% = 69.09/100 = 0.6909; 30.91% = 30.91/100 = 0.30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AAM will be closer to the mass of the isotope with the largest natural abun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THUS: Average atomic mass of copp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= (0.6909 x 62.93)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63Cu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+ (0.3091 x 64.9278)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65Cu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= 63.55 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0000" y="6467400"/>
            <a:ext cx="4284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Comic Sans MS"/>
              </a:rPr>
              <a:t>H.W. Solve the Practice Exercise p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C22B0-3841-4421-80D8-7DA760E1D9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-108000" y="441360"/>
          <a:ext cx="8381880" cy="2555640"/>
        </p:xfrm>
        <a:graphic>
          <a:graphicData uri="http://schemas.openxmlformats.org/drawingml/2006/table">
            <a:tbl>
              <a:tblPr/>
              <a:tblGrid>
                <a:gridCol w="644400"/>
                <a:gridCol w="538200"/>
                <a:gridCol w="7199280"/>
              </a:tblGrid>
              <a:tr h="114804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odine has two isotopes </a:t>
                      </a:r>
                      <a:r>
                        <a:rPr b="0" lang="en-US" sz="2400" spc="-1" strike="noStrike" baseline="30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12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 and </a:t>
                      </a:r>
                      <a:r>
                        <a:rPr b="0" lang="en-US" sz="2400" spc="-1" strike="noStrike" baseline="30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127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,  with the equal abundan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Calculate the average atomic mass of Iodine (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53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126.5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5.45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265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1.92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34972-A606-45AA-BD21-2C140B2228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8000" y="549360"/>
            <a:ext cx="8893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6633"/>
                </a:solidFill>
                <a:uFillTx/>
                <a:latin typeface="Comic Sans MS"/>
              </a:rPr>
              <a:t>NOTE:</a:t>
            </a: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 Atomic Mass of an isotop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e.g.  </a:t>
            </a:r>
            <a:r>
              <a:rPr b="0" lang="en-US" sz="4000" spc="-1" strike="noStrike" baseline="30000">
                <a:solidFill>
                  <a:srgbClr val="666633"/>
                </a:solidFill>
                <a:latin typeface="Comic Sans MS"/>
              </a:rPr>
              <a:t>12</a:t>
            </a: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C &amp; </a:t>
            </a:r>
            <a:r>
              <a:rPr b="0" lang="en-US" sz="4000" spc="-1" strike="noStrike" baseline="30000">
                <a:solidFill>
                  <a:srgbClr val="666633"/>
                </a:solidFill>
                <a:latin typeface="Comic Sans MS"/>
              </a:rPr>
              <a:t>13</a:t>
            </a: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Atomic Mass of an ele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e.g. C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= Average Atomic Ma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Als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Average Atomic Mass C = Atomic Mass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47C51-492E-48EC-9870-AFB028820F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3.2 Avogadro’s Number and the Molar M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 (mol) is the SI unit of the amount of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vogadro’s Number (N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ne mole of each substance contains 6.022 x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article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9999ff"/>
                </a:solidFill>
                <a:latin typeface="Comic Sans MS"/>
              </a:rPr>
              <a:t>atom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olecu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ion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tc.),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6.022 x 10</a:t>
            </a:r>
            <a:r>
              <a:rPr b="0" lang="en-GB" sz="3200" spc="-1" strike="noStrike" baseline="30000">
                <a:solidFill>
                  <a:srgbClr val="a50021"/>
                </a:solidFill>
                <a:latin typeface="Comic Sans MS"/>
              </a:rPr>
              <a:t>23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the Avogadro's Number (N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6.022 x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3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rticles (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atom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molecul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ions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3D0F5-86FA-4674-838E-3DDD239E9E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2340000" y="620640"/>
            <a:ext cx="3816000" cy="3384360"/>
            <a:chOff x="2340000" y="620640"/>
            <a:chExt cx="3816000" cy="338436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2340000" y="1389960"/>
              <a:ext cx="3816000" cy="261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838240" y="620640"/>
              <a:ext cx="177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ozen = 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187280" y="4005360"/>
            <a:ext cx="640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1 dozen = 12 Any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1 mol = 6.022 x10</a:t>
            </a:r>
            <a:r>
              <a:rPr b="0" lang="en-GB" sz="36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parti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F2E61-6E12-42C0-A25C-7D0B6CB310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 atom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atom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B37B0-CE6A-4887-836D-68C457A531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026" descr="03_01"/>
          <p:cNvPicPr/>
          <p:nvPr/>
        </p:nvPicPr>
        <p:blipFill>
          <a:blip r:embed="rId1"/>
          <a:srcRect l="0" t="11559" r="0" b="12764"/>
          <a:stretch/>
        </p:blipFill>
        <p:spPr>
          <a:xfrm>
            <a:off x="-108000" y="981000"/>
            <a:ext cx="9396360" cy="5332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47640" y="1197000"/>
            <a:ext cx="15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Car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51280" y="394020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Merc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3860640"/>
            <a:ext cx="15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Co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61440" y="365112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I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88360" y="127476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Sulp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68C8B-0380-43C0-9F5E-D6B723E672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7476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Molar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964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olar mass (M)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ss (in g or kg) of one mole of a substanc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 = mass/mo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ONE MOLE: 1 amu = 1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e atomic mass of 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1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C is 12.00 amu = 12.0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of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= 12.00 amu = 12.00 g = has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atom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has 6.022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e Molar Mass (M)  of 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1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C = 12.00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0360" y="2060640"/>
            <a:ext cx="3959280" cy="647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95640" y="3139920"/>
            <a:ext cx="5040360" cy="5763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4276A-A2B0-4370-A859-4261F7BBF1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3</a:t>
            </a:r>
            <a:br>
              <a:rPr sz="4000"/>
            </a:b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Mass Relationships in Chemical Reactions </a:t>
            </a:r>
            <a:br>
              <a:rPr sz="3600"/>
            </a:b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Chang Pages 80-107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110-114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.5, 3.6, 3.7, 3.8, 3.14, 3.16, 3.18, 3.20, 3.22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.24, 3.26, 3.28, 3.40, 3.42, 3.44, 3.46, 3.48, 3.50, 3.52, 3.44, 3.46, 3.48, 3.50, 3.52, 3.60, 3.84, 3.86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B65AE-04CD-400D-9103-4835D1AC68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7640" y="549000"/>
            <a:ext cx="8893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Atomic Mass of an isotope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e.g.  </a:t>
            </a:r>
            <a:r>
              <a:rPr b="0" lang="en-US" sz="4400" spc="-1" strike="noStrike" baseline="30000">
                <a:solidFill>
                  <a:srgbClr val="666633"/>
                </a:solidFill>
                <a:latin typeface="Comic Sans MS"/>
              </a:rPr>
              <a:t>12</a:t>
            </a: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C &amp; </a:t>
            </a:r>
            <a:r>
              <a:rPr b="0" lang="en-US" sz="4400" spc="-1" strike="noStrike" baseline="30000">
                <a:solidFill>
                  <a:srgbClr val="666633"/>
                </a:solidFill>
                <a:latin typeface="Comic Sans MS"/>
              </a:rPr>
              <a:t>13</a:t>
            </a: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Atomic Mass of an ele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e.g. 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is Average Atomic Mas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Also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Average Atomic Mass C = Atomic Mass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10FC5-2342-416E-866C-FAF8C247D0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07280" cy="2016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Molar Mass (g/mo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Atomic Mass (amu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2935440"/>
            <a:ext cx="820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009a7"/>
                </a:solidFill>
                <a:latin typeface="Comic Sans MS"/>
              </a:rPr>
              <a:t>1. The atomic mass of Na = 22.99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009a7"/>
                </a:solidFill>
                <a:latin typeface="Comic Sans MS"/>
              </a:rPr>
              <a:t>The molar mass of Na = 22.9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6633"/>
                </a:solidFill>
                <a:latin typeface="Comic Sans MS"/>
              </a:rPr>
              <a:t>2. The atomic mass of P = 30.97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6633"/>
                </a:solidFill>
                <a:latin typeface="Comic Sans MS"/>
              </a:rPr>
              <a:t>The molar mass of P = 30.97 g/mol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84363-1385-4E5A-AD76-DA34AA32B2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2 p8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moles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f He atoms are in 6.46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of 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EBC41-B529-430F-96E2-9CCBEC6780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95280" y="404640"/>
            <a:ext cx="874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umber of moles =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 atomic mass of He = The Molar mass of 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From the periodic Tab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the atomic mass of He = The molar mass of He = 4.003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4.003 g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1 mole of 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6.46 g of He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? Moles (?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there is 1.61 moles of He atoms in 6.46 g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114560" y="3990960"/>
                <a:ext cx="590544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 x 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835280" y="6346800"/>
            <a:ext cx="6373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H.W. Solve the Practice Exercise p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6B021-FB56-4981-8BBE-3D45CA277B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12720" y="476280"/>
            <a:ext cx="5832720" cy="302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= number of m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mass (atom or molecu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molar mass (atomic mass or molecular ma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What is the relation between th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730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024360" y="2565360"/>
                <a:ext cx="25923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512720" y="3645000"/>
            <a:ext cx="5832720" cy="306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= number of m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= number of atoms or molec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Avogadro's number (atoms (or molecules)/m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What is the relation between th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160720" y="5786280"/>
                <a:ext cx="453708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tom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 molecule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tom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 molecules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96DF3-1972-4247-9BE6-8D60D9CB776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11280" y="62064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How many mole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of He atoms are in 6.46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of H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611280" y="1916280"/>
                <a:ext cx="784836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E705B-0352-4200-A49D-F16765C856F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3 p8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grams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f Zn  are in 0.356 m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of Z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02387-E148-4BDA-A870-C478F83BDD7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404640"/>
            <a:ext cx="874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umber of moles =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 atomic mass of Zn = The Molar mass of 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From the periodic Tab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The Atomic mass of Zn = molar mass of Zn = 65.3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65.39 g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1 mole of 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g of He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0.356 m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there is 23.3 g of Zn atoms in 0.356 mole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55640" y="4005360"/>
                <a:ext cx="66945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s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rPr>
                            <m:lit/>
                            <m:nor/>
                          </m:rPr>
                          <m:t xml:space="preserve"> g x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g of Z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2158920" y="6237360"/>
            <a:ext cx="5942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H.W. Solve the Practice Exercise p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56BD1-1555-4FB9-A5C1-9F932B8337C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11280" y="62064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How many gram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of Zn  are in 0.356 m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of Z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42880" y="1916280"/>
                <a:ext cx="8275680" cy="22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9E85C-280C-4D04-B28F-ADC12AF1E32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95280" y="620640"/>
            <a:ext cx="84978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4 p8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S atoms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 are in 16.3 g of 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Strate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How many moles in 16.3 g of S = X</a:t>
            </a: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1 mole </a:t>
            </a:r>
            <a:r>
              <a:rPr b="0" lang="en-GB" sz="32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6.022 x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23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S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X moles </a:t>
            </a:r>
            <a:r>
              <a:rPr b="0" lang="en-GB" sz="32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?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5D4D1-B38C-4D9D-9D9C-A906DFB9EC9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Chapter 3: Mass Relationships in Chemical Reactions: Outlin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Comic Sans MS"/>
              </a:rPr>
              <a:t>3.1 Atomic Mas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Comic Sans MS"/>
              </a:rPr>
              <a:t>3.2 Avogadro’s Number and Molar Mass of an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3.3 Molecular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3.5 Percent Composition of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3.6 Experimental Determination of 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9a7"/>
                </a:solidFill>
                <a:latin typeface="Comic Sans MS"/>
              </a:rPr>
              <a:t>3.9 Limiting 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3.10 Reaction Yie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8C329-9DE4-47A0-AB32-FEE34FAB6A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95280" y="404640"/>
            <a:ext cx="874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From the periodic Table: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The atomic mass of S = 32.07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molar mass of S = 32.07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us: 32.07 g </a:t>
            </a: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1 mole of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16.3 g of S </a:t>
            </a: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? m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We know: 1 mol of S </a:t>
            </a:r>
            <a:r>
              <a:rPr b="0" lang="en-GB" sz="24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.022 x10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23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 S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             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0.508 mole </a:t>
            </a:r>
            <a:r>
              <a:rPr b="0" lang="en-GB" sz="24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? S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There is 3.06 x10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23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 atoms of S in 16.3 g of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84720" y="6539040"/>
            <a:ext cx="4284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50021"/>
                </a:solidFill>
                <a:latin typeface="Comic Sans MS"/>
              </a:rPr>
              <a:t>H.W. Solve the Practice Exercise p8</a:t>
            </a:r>
            <a:r>
              <a:rPr b="1" lang="ar-SA" sz="1600" spc="-1" strike="noStrike">
                <a:solidFill>
                  <a:srgbClr val="a50021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979640" y="3429000"/>
                <a:ext cx="41767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 x 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835280" y="5229360"/>
                <a:ext cx="4176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umber of S atom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atoms x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o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S ato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4947B-A6A5-4475-870F-4ECE93FC3D8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11280" y="620640"/>
            <a:ext cx="849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S atoms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 are in 16.3 g of 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11280" y="1628640"/>
                <a:ext cx="7807320" cy="14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11280" y="3429000"/>
                <a:ext cx="7993080" cy="27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8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/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9AD75-4981-4ACA-B5E6-7BF86649F4A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Molecular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lecular Mass (molecular weight)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sum of the atomic masses (in amu) in th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olecu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(MOLECU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lecular Mass: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ultiply the atomic mass of each element by the number of atoms of that element present in the molecule and sum over all the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e.g. Molecular Mass of H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O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(2 x atomic mass of H) + (1x atomic mass of 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(2 x 1.008 amu) + (1x 16.00 amu) = 18.02 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34B29-62B4-4CBE-923D-FF9D95684E1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48708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3.5 p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molecular masses (in amu)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following 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(a) Sulphur dioxide (S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(b) Caffeine (C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8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3141720"/>
            <a:ext cx="882000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cular mass of S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1 x 32.07) + (2 x 16.00) = 64.07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Molecular mass of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8 x 12.01) + (10 x 1.008) 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4 x 14.01) + (2 x 16.00) =194.20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CAC75-36F2-4732-BF30-86D309AC2A6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57200" y="620640"/>
            <a:ext cx="822960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 atom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 atom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 x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H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6E3DF-EAB1-4D3D-92B5-FAE108F259B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981000"/>
            <a:ext cx="822960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O molecu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C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4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C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4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137C1-4048-44F3-B513-BE2C46F13B7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Example 3.6 p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many moles of 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are present in 6.07 g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2997360"/>
            <a:ext cx="8820000" cy="36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Mass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(1 x 12 .01) + (4 x 1.008) = 16.04 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Molecular Mass (in amu) = Molar Mass (g/m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16.04 amu = 16.04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 1 mole of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6.04 g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? mol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.07 g of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476280"/>
            <a:ext cx="8496360" cy="1081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Atomic mass (in amu) = Molar Mass (g/mo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Molecular Mass (in amu) = Molar Mass (g/m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684360" y="5805360"/>
                <a:ext cx="76327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umber of moles of C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e x 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D918C-2227-49FD-8155-C9CF43CAD09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39640" y="620640"/>
            <a:ext cx="76867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many moles of 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are present in 6.07 g of 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11280" y="1700280"/>
                <a:ext cx="7920000" cy="12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52733-C0B6-45C2-A291-28B29BBE24A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-36360" y="476280"/>
          <a:ext cx="8640360" cy="2190240"/>
        </p:xfrm>
        <a:graphic>
          <a:graphicData uri="http://schemas.openxmlformats.org/drawingml/2006/table">
            <a:tbl>
              <a:tblPr/>
              <a:tblGrid>
                <a:gridCol w="664560"/>
                <a:gridCol w="665280"/>
                <a:gridCol w="7310520"/>
              </a:tblGrid>
              <a:tr h="83268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ow many molecules of ethane (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are present in 0.334 g of 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01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6.69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96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.89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5AD05-1D9E-4A6D-8E92-8F018B3651B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68360" y="404640"/>
            <a:ext cx="8675640" cy="72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olecular mass of 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 (2 x 12.01) + (6 x 1.008) = 30.068 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mass (amu) = Molar mass (g/mol) = 30.068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0.068 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1 m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.334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?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mole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.022 x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olecules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.011 mole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? molecules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971640" y="3213000"/>
                <a:ext cx="770400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umber of moles of 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e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4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8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50920" y="5300640"/>
                <a:ext cx="860400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umber of molecules of 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22x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olecule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ole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  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ecul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BE9CB-5F32-4808-898E-57415CF0071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3.1 Atomic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ss of an atom = mass of p + mass of n + mass of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ss of p =mass of n = 1840 mass of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Mass of atom = mass of p + mass of 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tomic mass (or atomic weight)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mass of the atom in atomic mass unit (amu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tomic mass unit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mass that exactly equal to one-twelfth the mass of one carbon-12 (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) at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The atomic mass of </a:t>
            </a:r>
            <a:r>
              <a:rPr b="1" lang="en-GB" sz="3200" spc="-1" strike="noStrike" baseline="30000">
                <a:solidFill>
                  <a:srgbClr val="ff0000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C = 12.00 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F3828-DF34-4FDB-9718-D42769E0E9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-36360" y="476280"/>
          <a:ext cx="8640360" cy="2190240"/>
        </p:xfrm>
        <a:graphic>
          <a:graphicData uri="http://schemas.openxmlformats.org/drawingml/2006/table">
            <a:tbl>
              <a:tblPr/>
              <a:tblGrid>
                <a:gridCol w="664560"/>
                <a:gridCol w="665280"/>
                <a:gridCol w="7310520"/>
              </a:tblGrid>
              <a:tr h="83268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ow many molecules of ethane (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are present in 0.334 g of 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01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6.69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96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.89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755640" y="2924280"/>
                <a:ext cx="748188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4 </m:t>
                        </m:r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1 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755640" y="4292640"/>
                <a:ext cx="6697800" cy="23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1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/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414C9-46BD-43A5-A3D2-B9B9AAD491E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50752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3.7 p8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How many hydrogen atoms are present in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25.6 g of urea [(NH</a:t>
            </a:r>
            <a:r>
              <a:rPr b="0" lang="en-GB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)</a:t>
            </a:r>
            <a:r>
              <a:rPr b="0" lang="en-GB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O]. The molar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mass of urea is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0.06 g/m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89080" y="1830240"/>
                <a:ext cx="8604000" cy="498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2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 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6 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g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6 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ecules/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7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ecul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molecule 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H atoms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67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molecules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 ?H atom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 of H atoms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 atomx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67x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olecule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ecule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D5C88-67B7-4D78-A011-79628FF482B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7"/>
          <p:cNvSpPr/>
          <p:nvPr/>
        </p:nvSpPr>
        <p:spPr>
          <a:xfrm>
            <a:off x="539640" y="549360"/>
            <a:ext cx="83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H.W.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What is the mass, in grams, of one copper atom? 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)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.055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2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b)   63.55 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d)  1.6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2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e)  9.47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1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66DEF-3CEE-4294-A650-B4FC3D78521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68360" y="549360"/>
            <a:ext cx="727236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mic mass of Cu = 63.55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ar mass of Cu = 63.55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3.55 g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 of 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.022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u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3.55g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.022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u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g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Cu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33520" y="5013360"/>
                <a:ext cx="779148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rams of Cu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atom x 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g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22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ato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5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</m:sSup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4E264-9F7C-4589-B5A5-1C1DBA58B90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7"/>
          <p:cNvSpPr/>
          <p:nvPr/>
        </p:nvSpPr>
        <p:spPr>
          <a:xfrm>
            <a:off x="539640" y="549360"/>
            <a:ext cx="83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H.W.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What is the mass, in grams, of one copper atom? 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)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.055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2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b)   63.55 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d)  1.6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2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e)  9.47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1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708120" y="3706920"/>
                <a:ext cx="7608960" cy="29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om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22x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atoms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 x 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 g/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F1E37-858D-400B-A881-49BA8DD2E22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5 Percent Composition of Compounds: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640" y="1847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08520" y="289548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صيغة الجزيئ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B78CC-BF34-4A31-8A0C-363D3D28094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5 Percent Composition of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ercent Composition by Mas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percent by mass of each element in a 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percent composition of an element in a compound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488240" y="4589640"/>
            <a:ext cx="5722560" cy="937800"/>
            <a:chOff x="1488240" y="4589640"/>
            <a:chExt cx="5722560" cy="937800"/>
          </a:xfrm>
        </p:grpSpPr>
        <p:sp>
          <p:nvSpPr>
            <p:cNvPr id="223" name=""/>
            <p:cNvSpPr/>
            <p:nvPr/>
          </p:nvSpPr>
          <p:spPr>
            <a:xfrm>
              <a:off x="1488240" y="4589640"/>
              <a:ext cx="462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x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ar mass of elem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03000" y="5006880"/>
              <a:ext cx="446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ar mass of compou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63480" y="5075280"/>
              <a:ext cx="42674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9280" y="4778280"/>
              <a:ext cx="136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24000" y="5734080"/>
            <a:ext cx="836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number of moles of the element i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1 mo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 comp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32000" y="4581360"/>
            <a:ext cx="6192720" cy="9367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0D185-3F23-48E6-A57D-D94580190AC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147600" y="620640"/>
            <a:ext cx="3200400" cy="2568960"/>
            <a:chOff x="147600" y="620640"/>
            <a:chExt cx="3200400" cy="2568960"/>
          </a:xfrm>
        </p:grpSpPr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147600" y="620640"/>
              <a:ext cx="3200400" cy="201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1156680" y="2610000"/>
              <a:ext cx="119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1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1" lang="en-US" sz="28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1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1" lang="en-US" sz="28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061720" y="3367080"/>
            <a:ext cx="5258520" cy="828000"/>
            <a:chOff x="2061720" y="3367080"/>
            <a:chExt cx="5258520" cy="828000"/>
          </a:xfrm>
        </p:grpSpPr>
        <p:sp>
          <p:nvSpPr>
            <p:cNvPr id="233" name=""/>
            <p:cNvSpPr/>
            <p:nvPr/>
          </p:nvSpPr>
          <p:spPr>
            <a:xfrm>
              <a:off x="2061720" y="3544920"/>
              <a:ext cx="87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%C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31120" y="3367080"/>
              <a:ext cx="19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x (12.01 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82480" y="373536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62080" y="3544920"/>
              <a:ext cx="25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100% = 52.14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95560" y="379260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2069640" y="4116240"/>
            <a:ext cx="5226120" cy="828000"/>
            <a:chOff x="2069640" y="4116240"/>
            <a:chExt cx="5226120" cy="828000"/>
          </a:xfrm>
        </p:grpSpPr>
        <p:sp>
          <p:nvSpPr>
            <p:cNvPr id="239" name=""/>
            <p:cNvSpPr/>
            <p:nvPr/>
          </p:nvSpPr>
          <p:spPr>
            <a:xfrm>
              <a:off x="2069640" y="4294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%H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55960" y="4116240"/>
              <a:ext cx="19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x (1.008 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82480" y="448452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37600" y="4294080"/>
              <a:ext cx="25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100% = 13.13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95560" y="454176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068200" y="4878360"/>
            <a:ext cx="5276520" cy="828000"/>
            <a:chOff x="2068200" y="4878360"/>
            <a:chExt cx="5276520" cy="828000"/>
          </a:xfrm>
        </p:grpSpPr>
        <p:sp>
          <p:nvSpPr>
            <p:cNvPr id="245" name=""/>
            <p:cNvSpPr/>
            <p:nvPr/>
          </p:nvSpPr>
          <p:spPr>
            <a:xfrm>
              <a:off x="2068200" y="5056200"/>
              <a:ext cx="9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%O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31120" y="4878360"/>
              <a:ext cx="19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x (16.00 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82480" y="524664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786560" y="5056200"/>
              <a:ext cx="25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100% = 34.73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95560" y="530388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959480" y="5780160"/>
            <a:ext cx="52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2.14% + 13.13% + 34.73% = 100.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57405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Check the answ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19640" y="620640"/>
            <a:ext cx="5653080" cy="24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a50021"/>
                </a:solidFill>
                <a:uFillTx/>
                <a:latin typeface="Comic Sans MS"/>
              </a:rPr>
              <a:t>PERIODIC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Molar mass of C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O = Molecular mass C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(2 x 12.01) + (6 x 1.008) + (1 x16.00) = 46.07 g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009a7"/>
                </a:solidFill>
                <a:latin typeface="Comic Sans MS"/>
              </a:rPr>
              <a:t>Molar mass of C = Atomic mass of C = 12.01 g 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cc"/>
                </a:solidFill>
                <a:latin typeface="Comic Sans MS"/>
              </a:rPr>
              <a:t>Molar mass of H = Atomic mass of H = 1.008 g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Comic Sans MS"/>
              </a:rPr>
              <a:t>Molar mass of O = Atomic mass of O = 16.00 g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F8D97-3C32-46B5-B693-74480A58BD3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8 p89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Calculate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of H, P, and O in H</a:t>
            </a:r>
            <a:r>
              <a:rPr b="0" lang="en-US" sz="32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PO</a:t>
            </a:r>
            <a:r>
              <a:rPr b="0" lang="en-US" sz="32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68360" y="2349360"/>
            <a:ext cx="8424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ar mass of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97.9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539640" y="3500280"/>
                <a:ext cx="4537080" cy="28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6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5076720" y="5529240"/>
            <a:ext cx="406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eck the ans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08% + 31.61% + 65.31% = 100.0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550D7-C8AC-46C7-B4C9-65303B86285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Content Placeholder 4"/>
          <p:cNvSpPr/>
          <p:nvPr/>
        </p:nvSpPr>
        <p:spPr>
          <a:xfrm>
            <a:off x="453960" y="620640"/>
            <a:ext cx="843912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99"/>
                </a:solidFill>
                <a:uFillTx/>
                <a:latin typeface="Comic Sans MS"/>
              </a:rPr>
              <a:t>H.W.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Calculate the percent of nitrogen in Ca(NO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.01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7.1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6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-38160" y="2967120"/>
          <a:ext cx="8077320" cy="2921040"/>
        </p:xfrm>
        <a:graphic>
          <a:graphicData uri="http://schemas.openxmlformats.org/drawingml/2006/table">
            <a:tbl>
              <a:tblPr/>
              <a:tblGrid>
                <a:gridCol w="533520"/>
                <a:gridCol w="709560"/>
                <a:gridCol w="6834240"/>
              </a:tblGrid>
              <a:tr h="1463400"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7d"/>
                          </a:solidFill>
                          <a:uFillTx/>
                          <a:latin typeface="Comic Sans MS"/>
                          <a:ea typeface="Times New Roman"/>
                        </a:rPr>
                        <a:t>H.W.</a:t>
                      </a:r>
                      <a:r>
                        <a:rPr b="0" lang="en-GB" sz="2400" spc="-1" strike="noStrike">
                          <a:solidFill>
                            <a:srgbClr val="00007d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All of the substances listed below are fertilizers that contribute nitrogen to the soil</a:t>
                      </a: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7d"/>
                          </a:solidFill>
                          <a:latin typeface="Comic Sans MS"/>
                          <a:ea typeface="Times New Roman"/>
                        </a:rPr>
                        <a:t>Which</a:t>
                      </a:r>
                      <a:r>
                        <a:rPr b="1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 of these is the richest source of nitrogen on a mass percentage basis</a:t>
                      </a:r>
                      <a:r>
                        <a:rPr b="1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?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rea, (N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mmonium nitrate, N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O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Guanidine, HNC(N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  <a:ea typeface="Times New Roman"/>
                        </a:rPr>
                        <a:t>Ammonia, NH</a:t>
                      </a:r>
                      <a:r>
                        <a:rPr b="0" lang="en-US" sz="2400" spc="-1" strike="noStrike" baseline="-25000">
                          <a:solidFill>
                            <a:srgbClr val="9900cc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539640" y="5877000"/>
            <a:ext cx="59770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ايا من هذه المواد هواغنى مصدر للنيتروجين على اساس احتوائه على اكبر نسبه وزنيه من النيتروجين؟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588000" y="5137200"/>
            <a:ext cx="2305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46.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5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71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82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49792-0EB9-4282-AF34-BA32FE617ED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896472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The atomic mass of </a:t>
            </a:r>
            <a:r>
              <a:rPr b="1" lang="en-GB" sz="3200" spc="-1" strike="noStrike" baseline="30000">
                <a:solidFill>
                  <a:srgbClr val="ff0000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C = 12.00 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baseline="30000">
                <a:solidFill>
                  <a:srgbClr val="9999ff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9999ff"/>
                </a:solidFill>
                <a:latin typeface="Comic Sans MS"/>
              </a:rPr>
              <a:t>C is the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.g. Hydrogen atom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is only 8.4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assive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s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Thus: the atomic mass of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 = 0.084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12.0 amu= 1.008 amu and so on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other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C8883-AB2E-4B80-8320-15B2CA23C4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Determination of the Empirical Formula from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22280" y="1557360"/>
            <a:ext cx="8686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Example: Determine the empirical formula of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compound that has the following percent composition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mass: K 24.75, Mn 34.77, O 40.51 per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227720" y="2924280"/>
            <a:ext cx="1916280" cy="39337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34920" y="3141720"/>
            <a:ext cx="7273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vert to grams &amp; divide by the molar mas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umber of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24.75g of K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34.77g of M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&amp;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40.51g of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627280" y="5084640"/>
                <a:ext cx="2741760" cy="173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  <m:r>
                          <m:rPr>
                            <m:lit/>
                            <m:nor/>
                          </m:rPr>
                          <m:t xml:space="preserve"> mol of K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mol of Mn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2</m:t>
                        </m:r>
                        <m:r>
                          <m:rPr>
                            <m:lit/>
                            <m:nor/>
                          </m:rPr>
                          <m:t xml:space="preserve"> mol of 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7308720" y="3500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308720" y="4653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308720" y="57992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6219E-0A84-4FB7-9893-7AA87A171CB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Divide by the smallest number of moles: 0.632 mo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 ratio of th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. All are integer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 the Empirical Formula of the compound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n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9900cc"/>
                </a:solidFill>
                <a:latin typeface="Comic Sans MS"/>
              </a:rPr>
              <a:t>KMnO</a:t>
            </a:r>
            <a:r>
              <a:rPr b="0" lang="en-GB" sz="60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755640" y="1506600"/>
                <a:ext cx="7711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O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21E60-76AF-49DB-8B29-CC58EC0766C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95280" y="120600"/>
            <a:ext cx="800424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Percent Composition and Empirical Fo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omic Sans MS"/>
                <a:ea typeface="Times New Roman"/>
              </a:rPr>
              <a:t>Q: Determine the empirical formula of a compound that has the following percent composition by mass: K 24.75, Mn 34.77, O 40.51 perc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93920" y="313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592200" y="1484280"/>
          <a:ext cx="7364520" cy="2689200"/>
        </p:xfrm>
        <a:graphic>
          <a:graphicData uri="http://schemas.openxmlformats.org/drawingml/2006/table">
            <a:tbl>
              <a:tblPr/>
              <a:tblGrid>
                <a:gridCol w="2863800"/>
                <a:gridCol w="1459080"/>
                <a:gridCol w="1582560"/>
                <a:gridCol w="1459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M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4.75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4.77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51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4.75/39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0.633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4.77/54.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0.6329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51/16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2.532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633/0.6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6329/0.6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532/0.6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n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Mn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623880" y="4403880"/>
            <a:ext cx="76201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Comic Sans MS"/>
                <a:cs typeface="Times New Roman"/>
              </a:rPr>
              <a:t>خطوات الح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نشأ جدول نضع فيه العناصر المذكورة في السؤا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عتبر أن النسبة المئوية معبر عنها بالجرام فلو كان عندنا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ن المركب فهذه ال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وزعة على العناصر حسب نسبتها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وجد عدد المولات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لكل عنصر باستخدام القانون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=m/M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قسم عدد المولات على أصغر مول من العناص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الأرقام التي نحصل عليها تمثل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mpirical formul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بشرط أن تكون أعداد صحيحة كما في المثال الساب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في حالة ظهور أعداد عشرية نقوم بضرب الأرقام التي في الأسفل الموجودة في الصيغة بأعداد بدأ من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،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...... حتى نحصل على أعداد صحيحة 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08000" y="6508800"/>
            <a:ext cx="3743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cc"/>
                </a:solidFill>
                <a:latin typeface="Comic Sans MS"/>
              </a:rPr>
              <a:t>Courtesy of Dr. Fawzia Albelw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FD7E4-D0D7-4CE5-9EF7-584D17D431C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Determination of the Empirical Formula from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22280" y="1557000"/>
            <a:ext cx="8686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3.9 p9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scorbic acid composed of 40.92% C, 4.58% H, and 54.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 by mass. Determine its empirical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227720" y="2924280"/>
            <a:ext cx="1916280" cy="39337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250920" y="3141720"/>
            <a:ext cx="6913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 40.92g of C, 4.58g of H, &amp; 54.50g of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826920" y="4216320"/>
                <a:ext cx="3745080" cy="25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7</m:t>
                        </m:r>
                        <m:r>
                          <m:rPr>
                            <m:lit/>
                            <m:nor/>
                          </m:rPr>
                          <m:t xml:space="preserve"> mol of C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8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mol of H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  <m:r>
                          <m:rPr>
                            <m:lit/>
                            <m:nor/>
                          </m:rPr>
                          <m:t xml:space="preserve"> mol of 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7308720" y="3500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308720" y="4653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08720" y="57992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6F63E-9E4B-4703-B0B3-97E95F1D8EE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. Not all numbers ar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Convert 1.33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ail-and error proced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33 x 2 = 2.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33 x 3 = 3.99 ≈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K. multiply all the numbers by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= 3             H =4         O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 the Empirical Formula of ascorbic acid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971640" y="620640"/>
                <a:ext cx="79214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7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O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83EF2-0E1F-43A3-AF97-B2368FED7E6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393920" y="313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539640" y="1484280"/>
          <a:ext cx="7004160" cy="3268800"/>
        </p:xfrm>
        <a:graphic>
          <a:graphicData uri="http://schemas.openxmlformats.org/drawingml/2006/table">
            <a:tbl>
              <a:tblPr/>
              <a:tblGrid>
                <a:gridCol w="2503440"/>
                <a:gridCol w="1459080"/>
                <a:gridCol w="1582560"/>
                <a:gridCol w="1459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92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58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4.50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92/12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3.407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58/1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4.54.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4.50/16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3.406 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407/3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4.54/3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406/3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Convert into integer x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99 =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93" name=""/>
          <p:cNvSpPr/>
          <p:nvPr/>
        </p:nvSpPr>
        <p:spPr>
          <a:xfrm>
            <a:off x="1055520" y="4566240"/>
            <a:ext cx="762012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Comic Sans MS"/>
                <a:cs typeface="Times New Roman"/>
              </a:rPr>
              <a:t>خطوات الح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نشأ جدول نضع فيه العناصر المذكورة في السؤا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عتبر أن النسبة المئوية معبر عنها بالجرام فلو كان عندنا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ن المركب فهذه ال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وزعة على العناصر حسب نسبتها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وجد عدد المولات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لكل عنصر باستخدام القانون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=m/M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قسم عدد المولات على أصغر مول من العناص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الأرقام التي نحصل عليها تمثل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mpirical formul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بشرط أن تكون أعداد صحيح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في حالة ظهور أعداد عشرية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ما في المثال السابق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نقوم بضرب الأرقام التي في الأسفل الموجودة في الصيغة بأعداد بدأ من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،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...... حتى نحصل على أعداد صحيحة 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2280" y="333360"/>
            <a:ext cx="8686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Example 3.9 p9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scorbic acid composed of 40.92% C, 4.58% H, and 54.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O by mass. Determine its empirical formu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A7A1D-176D-4285-B52A-8D06649321A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Determination of the Molecular Formula from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3.11 p9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 sample compound contains 1.52g of N and 3.47g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. The molar mass of this compound is between 90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nd 95g. Determine the molecular formu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0920" y="3141720"/>
            <a:ext cx="6913440" cy="38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Thus the empirical formula is: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684360" y="3645000"/>
                <a:ext cx="3456000" cy="15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  <m:r>
                          <m:rPr>
                            <m:lit/>
                            <m:nor/>
                          </m:rPr>
                          <m:t xml:space="preserve"> mol of N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rPr>
                            <m:lit/>
                            <m:nor/>
                          </m:rPr>
                          <m:t xml:space="preserve"> mol of 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684360" y="5445000"/>
                <a:ext cx="58323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                           </m:t>
                    </m:r>
                    <m:r>
                      <m:t xml:space="preserve">O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6588000" y="3213000"/>
            <a:ext cx="2484720" cy="2960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sent Composition by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mpirical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lecular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840E1-AC5C-4455-8A43-5AAC3C7D4C2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. The molar mass of the empirical formula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= 14.01 + (2x16.00) = 46.01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5. The ratio between the empirical formula and the molecular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6. The molecular formula is (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81160" y="3343320"/>
                <a:ext cx="50828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olar mass of compoun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mpirical molar mas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5435640" y="3284640"/>
                <a:ext cx="295272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7740720" y="327816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9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E1532-6599-47DF-BB59-1DA6E89641A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Content Placeholder 4"/>
          <p:cNvSpPr/>
          <p:nvPr/>
        </p:nvSpPr>
        <p:spPr>
          <a:xfrm>
            <a:off x="468360" y="549360"/>
            <a:ext cx="829476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Which of the following is an empirical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O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444600" y="2971800"/>
            <a:ext cx="85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A sample of acid compound contains 40.1 percent of C, 6.6 percent of H, and 53.3 percent of O. The molar mass of this compound is 60 g/mol . What is the molecular formula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324000" y="4611600"/>
            <a:ext cx="4267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492360" y="105264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ايا منهم لايمكن تبسيطه اكثر مما هو عليه؟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ED80B-2FC8-462F-8DF7-EE374059F276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604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3.7 Chemical Reactions and Chemical Eq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4920" y="1700280"/>
            <a:ext cx="642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 Reac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a process in which one or more substances is changed into one or more new substa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920" y="426888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 Equation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ses chemical symbols to show what happens during a chemical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293920" y="6005520"/>
            <a:ext cx="4300560" cy="520560"/>
            <a:chOff x="2293920" y="6005520"/>
            <a:chExt cx="4300560" cy="520560"/>
          </a:xfrm>
        </p:grpSpPr>
        <p:sp>
          <p:nvSpPr>
            <p:cNvPr id="318" name=""/>
            <p:cNvSpPr/>
            <p:nvPr/>
          </p:nvSpPr>
          <p:spPr>
            <a:xfrm>
              <a:off x="2293920" y="6005520"/>
              <a:ext cx="174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reacta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44960" y="62578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27680" y="6005520"/>
              <a:ext cx="166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produc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1" name="" descr=""/>
          <p:cNvPicPr/>
          <p:nvPr/>
        </p:nvPicPr>
        <p:blipFill>
          <a:blip r:embed="rId1"/>
          <a:srcRect l="2012" t="1995" r="0" b="0"/>
          <a:stretch/>
        </p:blipFill>
        <p:spPr>
          <a:xfrm>
            <a:off x="6823080" y="476280"/>
            <a:ext cx="2141640" cy="21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517AE-ECFA-43E5-A5A6-A5CC43257A2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3640" cy="603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AF7A1-2E89-4EEE-B4AB-199BAA7513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863640" y="4548240"/>
            <a:ext cx="7885080" cy="219384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79280" y="692280"/>
            <a:ext cx="87123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 ways of representing the reaction of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th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form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539640" y="3357720"/>
            <a:ext cx="8425080" cy="4968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826920" y="1916280"/>
            <a:ext cx="8137800" cy="62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92D6D-6659-4692-BFF7-25E1DA24818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576360" y="404640"/>
            <a:ext cx="8567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How to “Read” Chemical Equ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2734560" y="1614600"/>
            <a:ext cx="384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Mg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2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513320" y="191124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-324000" y="2535120"/>
            <a:ext cx="925200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atoms Mg + 1 molecule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kes 2 formula units M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moles Mg + 1 mole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akes 2 moles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48.6</a:t>
            </a: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ms Mg +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32.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ms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ake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80.6</a:t>
            </a: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1177920" y="4797360"/>
            <a:ext cx="694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2 grams Mg + 1 gram 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makes 2 g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956720" y="4437000"/>
            <a:ext cx="100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50021"/>
                </a:solidFill>
                <a:latin typeface="Arial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531280" y="3603600"/>
            <a:ext cx="100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315280" y="2924280"/>
            <a:ext cx="100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242200" y="2276640"/>
            <a:ext cx="100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3640" y="42051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Molar m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732720" y="1557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Comic Sans MS"/>
              </a:rPr>
              <a:t>Read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161D6-0065-42DB-BFCA-B69BF5C4663C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3"/>
          <p:cNvSpPr/>
          <p:nvPr/>
        </p:nvSpPr>
        <p:spPr>
          <a:xfrm>
            <a:off x="212760" y="120816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reactant/s on the left side and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product/s on the right side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Balancing Chemical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9640" y="305928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نكتب </a:t>
            </a:r>
            <a:r>
              <a:rPr b="0" lang="ar-SA" sz="2800" spc="-1" strike="noStrike" u="sng">
                <a:solidFill>
                  <a:srgbClr val="9900cc"/>
                </a:solidFill>
                <a:uFillTx/>
                <a:latin typeface="Arial"/>
              </a:rPr>
              <a:t>الصيغه الصحيحه</a:t>
            </a: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 لكل متفاعل (على الطرف الايسر) ولكل ناتج (على الطرف الايمن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D0487-1E09-4DBD-B2C9-E653F513939D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8"/>
          <p:cNvSpPr/>
          <p:nvPr/>
        </p:nvSpPr>
        <p:spPr>
          <a:xfrm>
            <a:off x="343080" y="476280"/>
            <a:ext cx="855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nge the numbers in front of the formulas (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coefficien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to make the number of atoms of each element the same on both sides of the equation.  Do not change the subscrip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14"/>
          <p:cNvGrpSpPr/>
          <p:nvPr/>
        </p:nvGrpSpPr>
        <p:grpSpPr>
          <a:xfrm>
            <a:off x="2626200" y="2395440"/>
            <a:ext cx="3627360" cy="680400"/>
            <a:chOff x="2626200" y="2395440"/>
            <a:chExt cx="3627360" cy="680400"/>
          </a:xfrm>
        </p:grpSpPr>
        <p:sp>
          <p:nvSpPr>
            <p:cNvPr id="342" name="Text Box 9"/>
            <p:cNvSpPr/>
            <p:nvPr/>
          </p:nvSpPr>
          <p:spPr>
            <a:xfrm>
              <a:off x="2626200" y="2427120"/>
              <a:ext cx="124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2C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2</a:t>
              </a: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H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12"/>
            <p:cNvSpPr/>
            <p:nvPr/>
          </p:nvSpPr>
          <p:spPr>
            <a:xfrm>
              <a:off x="3905640" y="2395440"/>
              <a:ext cx="95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O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3"/>
            <p:cNvSpPr/>
            <p:nvPr/>
          </p:nvSpPr>
          <p:spPr>
            <a:xfrm>
              <a:off x="5111280" y="2427120"/>
              <a:ext cx="114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C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4</a:t>
              </a: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H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468360" y="321300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وزن المعادله الكيميائيه يكون بتغير  الارقام التي بجانب الصيغه </a:t>
            </a:r>
            <a:r>
              <a:rPr b="0" lang="ar-SA" sz="3200" spc="-1" strike="noStrike" u="sng">
                <a:solidFill>
                  <a:srgbClr val="9900cc"/>
                </a:solidFill>
                <a:uFillTx/>
                <a:latin typeface="Arial"/>
              </a:rPr>
              <a:t>وليست التي تحتها</a:t>
            </a: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 بحيث يكون للعنصر نفس العدد على طرفي المعادله</a:t>
            </a: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5825A-3BCF-48CB-A0C0-CA0DB1E8917A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3"/>
          <p:cNvSpPr/>
          <p:nvPr/>
        </p:nvSpPr>
        <p:spPr>
          <a:xfrm>
            <a:off x="212760" y="692280"/>
            <a:ext cx="855036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rt by balancing those elements that appear in only one reactant and one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lance those elements that appear in two or more reactants or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55640" y="162864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00cc"/>
                </a:solidFill>
                <a:uFillTx/>
                <a:latin typeface="Arial"/>
              </a:rPr>
              <a:t>توزن اولا العناصر الاقل ظهور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979640" y="33638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00cc"/>
                </a:solidFill>
                <a:uFillTx/>
                <a:latin typeface="Arial"/>
              </a:rPr>
              <a:t>ثم توزن العناصر الاكثر ظهور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250920" y="422100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o make sure that you have the same number of each type of atom on both sides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4000" y="55166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00cc"/>
                </a:solidFill>
                <a:latin typeface="Arial"/>
              </a:rPr>
              <a:t>الخطوه الاخيره هي التأكد من ان لديك نفس العدد من الذرات لكل عنصر على طرفي المعادل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8A4E3-841D-48A1-BA87-6F58B2E44D07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407880" y="328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324000" y="2421000"/>
            <a:ext cx="855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reactant/s on the left side and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product/s on the right side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324000" y="9381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Nitrogen monoxide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reacts with oxygen to form nitrogen dioxide 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balance this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1476360" y="4437000"/>
                <a:ext cx="540072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D8A3E-2FB9-4F1F-BD2B-62AEFF57381D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3"/>
          <p:cNvSpPr/>
          <p:nvPr/>
        </p:nvSpPr>
        <p:spPr>
          <a:xfrm>
            <a:off x="281160" y="519120"/>
            <a:ext cx="855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Start by balancing those elements that appear in only one reactant and one produ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5"/>
          <p:cNvSpPr/>
          <p:nvPr/>
        </p:nvSpPr>
        <p:spPr>
          <a:xfrm>
            <a:off x="4994280" y="177336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start with N  not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24"/>
          <p:cNvGrpSpPr/>
          <p:nvPr/>
        </p:nvGrpSpPr>
        <p:grpSpPr>
          <a:xfrm>
            <a:off x="271800" y="2276280"/>
            <a:ext cx="1671120" cy="1359000"/>
            <a:chOff x="271800" y="2276280"/>
            <a:chExt cx="1671120" cy="1359000"/>
          </a:xfrm>
        </p:grpSpPr>
        <p:sp>
          <p:nvSpPr>
            <p:cNvPr id="359" name="Line 17"/>
            <p:cNvSpPr/>
            <p:nvPr/>
          </p:nvSpPr>
          <p:spPr>
            <a:xfrm flipV="1">
              <a:off x="1104840" y="227628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18"/>
            <p:cNvSpPr/>
            <p:nvPr/>
          </p:nvSpPr>
          <p:spPr>
            <a:xfrm>
              <a:off x="271800" y="2809800"/>
              <a:ext cx="1671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 nit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5"/>
          <p:cNvGrpSpPr/>
          <p:nvPr/>
        </p:nvGrpSpPr>
        <p:grpSpPr>
          <a:xfrm>
            <a:off x="3054600" y="2276280"/>
            <a:ext cx="1671120" cy="1359000"/>
            <a:chOff x="3054600" y="2276280"/>
            <a:chExt cx="1671120" cy="1359000"/>
          </a:xfrm>
        </p:grpSpPr>
        <p:sp>
          <p:nvSpPr>
            <p:cNvPr id="362" name="Line 21"/>
            <p:cNvSpPr/>
            <p:nvPr/>
          </p:nvSpPr>
          <p:spPr>
            <a:xfrm flipV="1">
              <a:off x="3889080" y="227628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2"/>
            <p:cNvSpPr/>
            <p:nvPr/>
          </p:nvSpPr>
          <p:spPr>
            <a:xfrm>
              <a:off x="3054600" y="2809800"/>
              <a:ext cx="1671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 nit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755640" y="1628640"/>
                <a:ext cx="39607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5" name="Text Box 15"/>
          <p:cNvSpPr/>
          <p:nvPr/>
        </p:nvSpPr>
        <p:spPr>
          <a:xfrm>
            <a:off x="5485320" y="299736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N is balanc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15352-077C-4552-91B7-FF8244E0619F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30"/>
          <p:cNvGrpSpPr/>
          <p:nvPr/>
        </p:nvGrpSpPr>
        <p:grpSpPr>
          <a:xfrm>
            <a:off x="1260000" y="2276280"/>
            <a:ext cx="1483920" cy="1359000"/>
            <a:chOff x="1260000" y="2276280"/>
            <a:chExt cx="1483920" cy="1359000"/>
          </a:xfrm>
        </p:grpSpPr>
        <p:sp>
          <p:nvSpPr>
            <p:cNvPr id="367" name="Line 31"/>
            <p:cNvSpPr/>
            <p:nvPr/>
          </p:nvSpPr>
          <p:spPr>
            <a:xfrm flipV="1">
              <a:off x="1998360" y="227628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32"/>
            <p:cNvSpPr/>
            <p:nvPr/>
          </p:nvSpPr>
          <p:spPr>
            <a:xfrm>
              <a:off x="1260000" y="280980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3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33"/>
          <p:cNvGrpSpPr/>
          <p:nvPr/>
        </p:nvGrpSpPr>
        <p:grpSpPr>
          <a:xfrm>
            <a:off x="3490200" y="2205000"/>
            <a:ext cx="1483920" cy="1359000"/>
            <a:chOff x="3490200" y="2205000"/>
            <a:chExt cx="1483920" cy="1359000"/>
          </a:xfrm>
        </p:grpSpPr>
        <p:sp>
          <p:nvSpPr>
            <p:cNvPr id="370" name="Line 34"/>
            <p:cNvSpPr/>
            <p:nvPr/>
          </p:nvSpPr>
          <p:spPr>
            <a:xfrm flipV="1">
              <a:off x="4230360" y="220500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35"/>
            <p:cNvSpPr/>
            <p:nvPr/>
          </p:nvSpPr>
          <p:spPr>
            <a:xfrm>
              <a:off x="3490200" y="273852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Text Box 36"/>
          <p:cNvSpPr/>
          <p:nvPr/>
        </p:nvSpPr>
        <p:spPr>
          <a:xfrm>
            <a:off x="5364000" y="2205000"/>
            <a:ext cx="3311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NO by 2 and NO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755640" y="1557360"/>
                <a:ext cx="39607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684360" y="3689280"/>
                <a:ext cx="45338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5" name="Text Box 3"/>
          <p:cNvSpPr/>
          <p:nvPr/>
        </p:nvSpPr>
        <p:spPr>
          <a:xfrm>
            <a:off x="212760" y="549360"/>
            <a:ext cx="85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lance those elements that appear in two or more reactants or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30"/>
          <p:cNvGrpSpPr/>
          <p:nvPr/>
        </p:nvGrpSpPr>
        <p:grpSpPr>
          <a:xfrm>
            <a:off x="75960" y="4581360"/>
            <a:ext cx="3624840" cy="1359000"/>
            <a:chOff x="75960" y="4581360"/>
            <a:chExt cx="3624840" cy="1359000"/>
          </a:xfrm>
        </p:grpSpPr>
        <p:sp>
          <p:nvSpPr>
            <p:cNvPr id="377" name="Line 31"/>
            <p:cNvSpPr/>
            <p:nvPr/>
          </p:nvSpPr>
          <p:spPr>
            <a:xfrm flipV="1">
              <a:off x="1876320" y="45813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32"/>
            <p:cNvSpPr/>
            <p:nvPr/>
          </p:nvSpPr>
          <p:spPr>
            <a:xfrm>
              <a:off x="75960" y="5114880"/>
              <a:ext cx="362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xygen + 2 oxygen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30"/>
          <p:cNvGrpSpPr/>
          <p:nvPr/>
        </p:nvGrpSpPr>
        <p:grpSpPr>
          <a:xfrm>
            <a:off x="3800880" y="4737240"/>
            <a:ext cx="2483640" cy="1359000"/>
            <a:chOff x="3800880" y="4737240"/>
            <a:chExt cx="2483640" cy="1359000"/>
          </a:xfrm>
        </p:grpSpPr>
        <p:sp>
          <p:nvSpPr>
            <p:cNvPr id="380" name="Line 31"/>
            <p:cNvSpPr/>
            <p:nvPr/>
          </p:nvSpPr>
          <p:spPr>
            <a:xfrm flipV="1">
              <a:off x="5033880" y="473724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32"/>
            <p:cNvSpPr/>
            <p:nvPr/>
          </p:nvSpPr>
          <p:spPr>
            <a:xfrm>
              <a:off x="3800880" y="5270760"/>
              <a:ext cx="2483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x 2 = 4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 Box 15"/>
          <p:cNvSpPr/>
          <p:nvPr/>
        </p:nvSpPr>
        <p:spPr>
          <a:xfrm>
            <a:off x="6442920" y="508464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is balanc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BA9BC-C792-4A0C-AB83-F42BB5303DD8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3"/>
          <p:cNvSpPr/>
          <p:nvPr/>
        </p:nvSpPr>
        <p:spPr>
          <a:xfrm>
            <a:off x="212760" y="59220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o make sure that you have the same number of each type of atom on both sides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34"/>
          <p:cNvGrpSpPr/>
          <p:nvPr/>
        </p:nvGrpSpPr>
        <p:grpSpPr>
          <a:xfrm>
            <a:off x="408600" y="2125800"/>
            <a:ext cx="3875760" cy="511560"/>
            <a:chOff x="408600" y="2125800"/>
            <a:chExt cx="3875760" cy="511560"/>
          </a:xfrm>
        </p:grpSpPr>
        <p:sp>
          <p:nvSpPr>
            <p:cNvPr id="385" name="Text Box 35"/>
            <p:cNvSpPr/>
            <p:nvPr/>
          </p:nvSpPr>
          <p:spPr>
            <a:xfrm>
              <a:off x="408600" y="2125800"/>
              <a:ext cx="149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7d"/>
                  </a:solidFill>
                  <a:latin typeface="Comic Sans MS"/>
                </a:rPr>
                <a:t>2NO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36"/>
            <p:cNvSpPr/>
            <p:nvPr/>
          </p:nvSpPr>
          <p:spPr>
            <a:xfrm>
              <a:off x="2374920" y="2354400"/>
              <a:ext cx="76212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37"/>
            <p:cNvSpPr/>
            <p:nvPr/>
          </p:nvSpPr>
          <p:spPr>
            <a:xfrm>
              <a:off x="3281040" y="2127240"/>
              <a:ext cx="1003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N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48"/>
          <p:cNvGrpSpPr/>
          <p:nvPr/>
        </p:nvGrpSpPr>
        <p:grpSpPr>
          <a:xfrm>
            <a:off x="5252040" y="3843360"/>
            <a:ext cx="3644640" cy="1789200"/>
            <a:chOff x="5252040" y="3843360"/>
            <a:chExt cx="3644640" cy="1789200"/>
          </a:xfrm>
        </p:grpSpPr>
        <p:sp>
          <p:nvSpPr>
            <p:cNvPr id="389" name="Text Box 38"/>
            <p:cNvSpPr/>
            <p:nvPr/>
          </p:nvSpPr>
          <p:spPr>
            <a:xfrm>
              <a:off x="5252040" y="384336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React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39"/>
            <p:cNvSpPr/>
            <p:nvPr/>
          </p:nvSpPr>
          <p:spPr>
            <a:xfrm>
              <a:off x="7441920" y="3843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40"/>
            <p:cNvSpPr/>
            <p:nvPr/>
          </p:nvSpPr>
          <p:spPr>
            <a:xfrm>
              <a:off x="5334120" y="426096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41"/>
            <p:cNvSpPr/>
            <p:nvPr/>
          </p:nvSpPr>
          <p:spPr>
            <a:xfrm>
              <a:off x="5690880" y="433692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42"/>
            <p:cNvSpPr/>
            <p:nvPr/>
          </p:nvSpPr>
          <p:spPr>
            <a:xfrm>
              <a:off x="5518080" y="47563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43"/>
            <p:cNvSpPr/>
            <p:nvPr/>
          </p:nvSpPr>
          <p:spPr>
            <a:xfrm>
              <a:off x="5486400" y="51753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44"/>
            <p:cNvSpPr/>
            <p:nvPr/>
          </p:nvSpPr>
          <p:spPr>
            <a:xfrm>
              <a:off x="7894440" y="433692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45"/>
            <p:cNvSpPr/>
            <p:nvPr/>
          </p:nvSpPr>
          <p:spPr>
            <a:xfrm>
              <a:off x="7721640" y="47563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6"/>
            <p:cNvSpPr/>
            <p:nvPr/>
          </p:nvSpPr>
          <p:spPr>
            <a:xfrm>
              <a:off x="7689960" y="51753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47"/>
            <p:cNvSpPr/>
            <p:nvPr/>
          </p:nvSpPr>
          <p:spPr>
            <a:xfrm>
              <a:off x="5334120" y="560700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52"/>
          <p:cNvGrpSpPr/>
          <p:nvPr/>
        </p:nvGrpSpPr>
        <p:grpSpPr>
          <a:xfrm>
            <a:off x="383400" y="2622600"/>
            <a:ext cx="3592800" cy="459720"/>
            <a:chOff x="383400" y="2622600"/>
            <a:chExt cx="3592800" cy="459720"/>
          </a:xfrm>
        </p:grpSpPr>
        <p:sp>
          <p:nvSpPr>
            <p:cNvPr id="400" name="Text Box 50"/>
            <p:cNvSpPr/>
            <p:nvPr/>
          </p:nvSpPr>
          <p:spPr>
            <a:xfrm>
              <a:off x="383400" y="2622600"/>
              <a:ext cx="74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51"/>
            <p:cNvSpPr/>
            <p:nvPr/>
          </p:nvSpPr>
          <p:spPr>
            <a:xfrm>
              <a:off x="3310920" y="262260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55"/>
          <p:cNvGrpSpPr/>
          <p:nvPr/>
        </p:nvGrpSpPr>
        <p:grpSpPr>
          <a:xfrm>
            <a:off x="346680" y="3098880"/>
            <a:ext cx="4675680" cy="459720"/>
            <a:chOff x="346680" y="3098880"/>
            <a:chExt cx="4675680" cy="459720"/>
          </a:xfrm>
        </p:grpSpPr>
        <p:sp>
          <p:nvSpPr>
            <p:cNvPr id="403" name="Text Box 53"/>
            <p:cNvSpPr/>
            <p:nvPr/>
          </p:nvSpPr>
          <p:spPr>
            <a:xfrm>
              <a:off x="346680" y="3098880"/>
              <a:ext cx="200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 + 2 O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54"/>
            <p:cNvSpPr/>
            <p:nvPr/>
          </p:nvSpPr>
          <p:spPr>
            <a:xfrm>
              <a:off x="3421440" y="3098880"/>
              <a:ext cx="160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 (2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941D4-5D45-45F3-BB41-27DC31B34893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407880" y="328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324000" y="2421000"/>
            <a:ext cx="855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reactant/s on the left side and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product/s on the right side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0"/>
          <p:cNvGrpSpPr/>
          <p:nvPr/>
        </p:nvGrpSpPr>
        <p:grpSpPr>
          <a:xfrm>
            <a:off x="2257920" y="4348080"/>
            <a:ext cx="4365000" cy="581400"/>
            <a:chOff x="2257920" y="4348080"/>
            <a:chExt cx="4365000" cy="581400"/>
          </a:xfrm>
        </p:grpSpPr>
        <p:sp>
          <p:nvSpPr>
            <p:cNvPr id="408" name="Text Box 5"/>
            <p:cNvSpPr/>
            <p:nvPr/>
          </p:nvSpPr>
          <p:spPr>
            <a:xfrm>
              <a:off x="2257920" y="4348080"/>
              <a:ext cx="1686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6"/>
            <p:cNvSpPr/>
            <p:nvPr/>
          </p:nvSpPr>
          <p:spPr>
            <a:xfrm>
              <a:off x="3867120" y="4576680"/>
              <a:ext cx="761760" cy="0"/>
            </a:xfrm>
            <a:prstGeom prst="line">
              <a:avLst/>
            </a:prstGeom>
            <a:ln w="38160">
              <a:solidFill>
                <a:srgbClr val="0000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7"/>
            <p:cNvSpPr/>
            <p:nvPr/>
          </p:nvSpPr>
          <p:spPr>
            <a:xfrm>
              <a:off x="4776480" y="4349880"/>
              <a:ext cx="1846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CO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 + H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Text Box 4"/>
          <p:cNvSpPr/>
          <p:nvPr/>
        </p:nvSpPr>
        <p:spPr>
          <a:xfrm>
            <a:off x="324000" y="9381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thane reacts with oxygen to form carbon dioxide and water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balance this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0C71D-8A46-4EFA-8BAB-C9CE791ED845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Average Atomic Mas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0714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ic mass of carbon = 12.01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2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arbon exist in more than one form (isotopes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&amp;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bon is a mixture of Isot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Atomic Mass = Average Atomic M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03280" y="1128600"/>
            <a:ext cx="1944720" cy="30492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2.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24360" y="1052640"/>
            <a:ext cx="2955960" cy="3168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659640" y="1773360"/>
            <a:ext cx="2484360" cy="12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Natural Abun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طبيع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وف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31DA7-4792-4EE0-AFF8-8974A494E5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3"/>
          <p:cNvSpPr/>
          <p:nvPr/>
        </p:nvSpPr>
        <p:spPr>
          <a:xfrm>
            <a:off x="281160" y="519120"/>
            <a:ext cx="855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Start by balancing those elements that appear in only one reactant and one produ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5"/>
          <p:cNvGrpSpPr/>
          <p:nvPr/>
        </p:nvGrpSpPr>
        <p:grpSpPr>
          <a:xfrm>
            <a:off x="486000" y="1596960"/>
            <a:ext cx="4128120" cy="511920"/>
            <a:chOff x="486000" y="1596960"/>
            <a:chExt cx="4128120" cy="511920"/>
          </a:xfrm>
        </p:grpSpPr>
        <p:sp>
          <p:nvSpPr>
            <p:cNvPr id="414" name="Text Box 6"/>
            <p:cNvSpPr/>
            <p:nvPr/>
          </p:nvSpPr>
          <p:spPr>
            <a:xfrm>
              <a:off x="486000" y="159696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7"/>
            <p:cNvSpPr/>
            <p:nvPr/>
          </p:nvSpPr>
          <p:spPr>
            <a:xfrm>
              <a:off x="2106720" y="182556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8"/>
            <p:cNvSpPr/>
            <p:nvPr/>
          </p:nvSpPr>
          <p:spPr>
            <a:xfrm>
              <a:off x="3007440" y="1598760"/>
              <a:ext cx="160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15"/>
          <p:cNvSpPr/>
          <p:nvPr/>
        </p:nvSpPr>
        <p:spPr>
          <a:xfrm>
            <a:off x="4822920" y="1596960"/>
            <a:ext cx="39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start with C or H but not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24"/>
          <p:cNvGrpSpPr/>
          <p:nvPr/>
        </p:nvGrpSpPr>
        <p:grpSpPr>
          <a:xfrm>
            <a:off x="99360" y="2054160"/>
            <a:ext cx="1438200" cy="1359000"/>
            <a:chOff x="99360" y="2054160"/>
            <a:chExt cx="1438200" cy="1359000"/>
          </a:xfrm>
        </p:grpSpPr>
        <p:sp>
          <p:nvSpPr>
            <p:cNvPr id="419" name="Line 17"/>
            <p:cNvSpPr/>
            <p:nvPr/>
          </p:nvSpPr>
          <p:spPr>
            <a:xfrm flipV="1">
              <a:off x="817560" y="20541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18"/>
            <p:cNvSpPr/>
            <p:nvPr/>
          </p:nvSpPr>
          <p:spPr>
            <a:xfrm>
              <a:off x="99360" y="2587680"/>
              <a:ext cx="1438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carb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25"/>
          <p:cNvGrpSpPr/>
          <p:nvPr/>
        </p:nvGrpSpPr>
        <p:grpSpPr>
          <a:xfrm>
            <a:off x="2473560" y="1977840"/>
            <a:ext cx="1438200" cy="1359000"/>
            <a:chOff x="2473560" y="1977840"/>
            <a:chExt cx="1438200" cy="1359000"/>
          </a:xfrm>
        </p:grpSpPr>
        <p:sp>
          <p:nvSpPr>
            <p:cNvPr id="422" name="Line 21"/>
            <p:cNvSpPr/>
            <p:nvPr/>
          </p:nvSpPr>
          <p:spPr>
            <a:xfrm flipV="1">
              <a:off x="3192480" y="197784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2"/>
            <p:cNvSpPr/>
            <p:nvPr/>
          </p:nvSpPr>
          <p:spPr>
            <a:xfrm>
              <a:off x="2473560" y="2511360"/>
              <a:ext cx="1438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 carb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Text Box 23"/>
          <p:cNvSpPr/>
          <p:nvPr/>
        </p:nvSpPr>
        <p:spPr>
          <a:xfrm>
            <a:off x="5696280" y="2664000"/>
            <a:ext cx="262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CO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26"/>
          <p:cNvGrpSpPr/>
          <p:nvPr/>
        </p:nvGrpSpPr>
        <p:grpSpPr>
          <a:xfrm>
            <a:off x="486000" y="3440160"/>
            <a:ext cx="4307760" cy="511560"/>
            <a:chOff x="486000" y="3440160"/>
            <a:chExt cx="4307760" cy="511560"/>
          </a:xfrm>
        </p:grpSpPr>
        <p:sp>
          <p:nvSpPr>
            <p:cNvPr id="426" name="Text Box 27"/>
            <p:cNvSpPr/>
            <p:nvPr/>
          </p:nvSpPr>
          <p:spPr>
            <a:xfrm>
              <a:off x="486000" y="344016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28"/>
            <p:cNvSpPr/>
            <p:nvPr/>
          </p:nvSpPr>
          <p:spPr>
            <a:xfrm>
              <a:off x="2106720" y="366840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29"/>
            <p:cNvSpPr/>
            <p:nvPr/>
          </p:nvSpPr>
          <p:spPr>
            <a:xfrm>
              <a:off x="3013560" y="3441600"/>
              <a:ext cx="178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30"/>
          <p:cNvGrpSpPr/>
          <p:nvPr/>
        </p:nvGrpSpPr>
        <p:grpSpPr>
          <a:xfrm>
            <a:off x="227880" y="3898800"/>
            <a:ext cx="1825200" cy="1359000"/>
            <a:chOff x="227880" y="3898800"/>
            <a:chExt cx="1825200" cy="1359000"/>
          </a:xfrm>
        </p:grpSpPr>
        <p:sp>
          <p:nvSpPr>
            <p:cNvPr id="430" name="Line 31"/>
            <p:cNvSpPr/>
            <p:nvPr/>
          </p:nvSpPr>
          <p:spPr>
            <a:xfrm flipV="1">
              <a:off x="1137960" y="389880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32"/>
            <p:cNvSpPr/>
            <p:nvPr/>
          </p:nvSpPr>
          <p:spPr>
            <a:xfrm>
              <a:off x="227880" y="4432320"/>
              <a:ext cx="182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6 hyd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33"/>
          <p:cNvGrpSpPr/>
          <p:nvPr/>
        </p:nvGrpSpPr>
        <p:grpSpPr>
          <a:xfrm>
            <a:off x="3507480" y="3898800"/>
            <a:ext cx="1825200" cy="1359000"/>
            <a:chOff x="3507480" y="3898800"/>
            <a:chExt cx="1825200" cy="1359000"/>
          </a:xfrm>
        </p:grpSpPr>
        <p:sp>
          <p:nvSpPr>
            <p:cNvPr id="433" name="Line 34"/>
            <p:cNvSpPr/>
            <p:nvPr/>
          </p:nvSpPr>
          <p:spPr>
            <a:xfrm flipV="1">
              <a:off x="4417560" y="389880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35"/>
            <p:cNvSpPr/>
            <p:nvPr/>
          </p:nvSpPr>
          <p:spPr>
            <a:xfrm>
              <a:off x="3507480" y="4432320"/>
              <a:ext cx="182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hyd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Text Box 36"/>
          <p:cNvSpPr/>
          <p:nvPr/>
        </p:nvSpPr>
        <p:spPr>
          <a:xfrm>
            <a:off x="5704200" y="4610160"/>
            <a:ext cx="266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b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37"/>
          <p:cNvGrpSpPr/>
          <p:nvPr/>
        </p:nvGrpSpPr>
        <p:grpSpPr>
          <a:xfrm>
            <a:off x="486000" y="5405400"/>
            <a:ext cx="4487400" cy="511920"/>
            <a:chOff x="486000" y="5405400"/>
            <a:chExt cx="4487400" cy="511920"/>
          </a:xfrm>
        </p:grpSpPr>
        <p:sp>
          <p:nvSpPr>
            <p:cNvPr id="437" name="Text Box 38"/>
            <p:cNvSpPr/>
            <p:nvPr/>
          </p:nvSpPr>
          <p:spPr>
            <a:xfrm>
              <a:off x="486000" y="540540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39"/>
            <p:cNvSpPr/>
            <p:nvPr/>
          </p:nvSpPr>
          <p:spPr>
            <a:xfrm>
              <a:off x="2106720" y="563400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40"/>
            <p:cNvSpPr/>
            <p:nvPr/>
          </p:nvSpPr>
          <p:spPr>
            <a:xfrm>
              <a:off x="3019320" y="540720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3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47A71-D67D-4B00-9526-EEF5F5D85BF9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3"/>
          <p:cNvSpPr/>
          <p:nvPr/>
        </p:nvSpPr>
        <p:spPr>
          <a:xfrm>
            <a:off x="212760" y="549360"/>
            <a:ext cx="85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lance those elements that appear in two or more reactants or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10"/>
          <p:cNvGrpSpPr/>
          <p:nvPr/>
        </p:nvGrpSpPr>
        <p:grpSpPr>
          <a:xfrm>
            <a:off x="883800" y="2309760"/>
            <a:ext cx="1483920" cy="1359000"/>
            <a:chOff x="883800" y="2309760"/>
            <a:chExt cx="1483920" cy="1359000"/>
          </a:xfrm>
        </p:grpSpPr>
        <p:sp>
          <p:nvSpPr>
            <p:cNvPr id="442" name="Line 11"/>
            <p:cNvSpPr/>
            <p:nvPr/>
          </p:nvSpPr>
          <p:spPr>
            <a:xfrm flipV="1">
              <a:off x="1623600" y="23097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12"/>
            <p:cNvSpPr/>
            <p:nvPr/>
          </p:nvSpPr>
          <p:spPr>
            <a:xfrm>
              <a:off x="883800" y="284328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13"/>
          <p:cNvGrpSpPr/>
          <p:nvPr/>
        </p:nvGrpSpPr>
        <p:grpSpPr>
          <a:xfrm>
            <a:off x="2585520" y="2309760"/>
            <a:ext cx="1483920" cy="1359000"/>
            <a:chOff x="2585520" y="2309760"/>
            <a:chExt cx="1483920" cy="1359000"/>
          </a:xfrm>
        </p:grpSpPr>
        <p:sp>
          <p:nvSpPr>
            <p:cNvPr id="445" name="Line 14"/>
            <p:cNvSpPr/>
            <p:nvPr/>
          </p:nvSpPr>
          <p:spPr>
            <a:xfrm flipV="1">
              <a:off x="3325680" y="23097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15"/>
            <p:cNvSpPr/>
            <p:nvPr/>
          </p:nvSpPr>
          <p:spPr>
            <a:xfrm>
              <a:off x="2585520" y="284328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(2x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28"/>
          <p:cNvGrpSpPr/>
          <p:nvPr/>
        </p:nvGrpSpPr>
        <p:grpSpPr>
          <a:xfrm>
            <a:off x="417600" y="1852560"/>
            <a:ext cx="4487400" cy="511920"/>
            <a:chOff x="417600" y="1852560"/>
            <a:chExt cx="4487400" cy="511920"/>
          </a:xfrm>
        </p:grpSpPr>
        <p:sp>
          <p:nvSpPr>
            <p:cNvPr id="448" name="Text Box 29"/>
            <p:cNvSpPr/>
            <p:nvPr/>
          </p:nvSpPr>
          <p:spPr>
            <a:xfrm>
              <a:off x="417600" y="185256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30"/>
            <p:cNvSpPr/>
            <p:nvPr/>
          </p:nvSpPr>
          <p:spPr>
            <a:xfrm>
              <a:off x="2038320" y="208116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31"/>
            <p:cNvSpPr/>
            <p:nvPr/>
          </p:nvSpPr>
          <p:spPr>
            <a:xfrm>
              <a:off x="2950920" y="185436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3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44"/>
          <p:cNvGrpSpPr/>
          <p:nvPr/>
        </p:nvGrpSpPr>
        <p:grpSpPr>
          <a:xfrm>
            <a:off x="3882240" y="2309760"/>
            <a:ext cx="1736640" cy="1349280"/>
            <a:chOff x="3882240" y="2309760"/>
            <a:chExt cx="1736640" cy="1349280"/>
          </a:xfrm>
        </p:grpSpPr>
        <p:sp>
          <p:nvSpPr>
            <p:cNvPr id="452" name="Line 33"/>
            <p:cNvSpPr/>
            <p:nvPr/>
          </p:nvSpPr>
          <p:spPr>
            <a:xfrm flipV="1">
              <a:off x="4749840" y="23097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34"/>
            <p:cNvSpPr/>
            <p:nvPr/>
          </p:nvSpPr>
          <p:spPr>
            <a:xfrm>
              <a:off x="3882240" y="2833560"/>
              <a:ext cx="1736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+ 3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(3x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Group 54"/>
          <p:cNvGrpSpPr/>
          <p:nvPr/>
        </p:nvGrpSpPr>
        <p:grpSpPr>
          <a:xfrm>
            <a:off x="5578200" y="1700280"/>
            <a:ext cx="2427120" cy="764280"/>
            <a:chOff x="5578200" y="1700280"/>
            <a:chExt cx="2427120" cy="764280"/>
          </a:xfrm>
        </p:grpSpPr>
        <p:sp>
          <p:nvSpPr>
            <p:cNvPr id="455" name="Text Box 16"/>
            <p:cNvSpPr/>
            <p:nvPr/>
          </p:nvSpPr>
          <p:spPr>
            <a:xfrm>
              <a:off x="5578200" y="1852560"/>
              <a:ext cx="2422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multiply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by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Group 42"/>
            <p:cNvGrpSpPr/>
            <p:nvPr/>
          </p:nvGrpSpPr>
          <p:grpSpPr>
            <a:xfrm>
              <a:off x="7624800" y="1700280"/>
              <a:ext cx="380520" cy="764280"/>
              <a:chOff x="7624800" y="1700280"/>
              <a:chExt cx="380520" cy="764280"/>
            </a:xfrm>
          </p:grpSpPr>
          <p:sp>
            <p:nvSpPr>
              <p:cNvPr id="457" name="Text Box 37"/>
              <p:cNvSpPr/>
              <p:nvPr/>
            </p:nvSpPr>
            <p:spPr>
              <a:xfrm>
                <a:off x="7644600" y="1700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38"/>
              <p:cNvSpPr/>
              <p:nvPr/>
            </p:nvSpPr>
            <p:spPr>
              <a:xfrm>
                <a:off x="7624800" y="2081160"/>
                <a:ext cx="380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Text Box 41"/>
              <p:cNvSpPr/>
              <p:nvPr/>
            </p:nvSpPr>
            <p:spPr>
              <a:xfrm>
                <a:off x="7644600" y="20048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0" name="Text Box 45"/>
          <p:cNvSpPr/>
          <p:nvPr/>
        </p:nvSpPr>
        <p:spPr>
          <a:xfrm>
            <a:off x="5447520" y="2833560"/>
            <a:ext cx="173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= 7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n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55"/>
          <p:cNvGrpSpPr/>
          <p:nvPr/>
        </p:nvGrpSpPr>
        <p:grpSpPr>
          <a:xfrm>
            <a:off x="445680" y="3846600"/>
            <a:ext cx="4783320" cy="764280"/>
            <a:chOff x="445680" y="3846600"/>
            <a:chExt cx="4783320" cy="764280"/>
          </a:xfrm>
        </p:grpSpPr>
        <p:sp>
          <p:nvSpPr>
            <p:cNvPr id="462" name="Text Box 47"/>
            <p:cNvSpPr/>
            <p:nvPr/>
          </p:nvSpPr>
          <p:spPr>
            <a:xfrm>
              <a:off x="445680" y="3984480"/>
              <a:ext cx="186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    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48"/>
            <p:cNvSpPr/>
            <p:nvPr/>
          </p:nvSpPr>
          <p:spPr>
            <a:xfrm>
              <a:off x="2362320" y="421308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49"/>
            <p:cNvSpPr/>
            <p:nvPr/>
          </p:nvSpPr>
          <p:spPr>
            <a:xfrm>
              <a:off x="3274920" y="398628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3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" name="Group 50"/>
            <p:cNvGrpSpPr/>
            <p:nvPr/>
          </p:nvGrpSpPr>
          <p:grpSpPr>
            <a:xfrm>
              <a:off x="1523880" y="3846600"/>
              <a:ext cx="380880" cy="764280"/>
              <a:chOff x="1523880" y="3846600"/>
              <a:chExt cx="380880" cy="764280"/>
            </a:xfrm>
          </p:grpSpPr>
          <p:sp>
            <p:nvSpPr>
              <p:cNvPr id="466" name="Text Box 51"/>
              <p:cNvSpPr/>
              <p:nvPr/>
            </p:nvSpPr>
            <p:spPr>
              <a:xfrm>
                <a:off x="1544040" y="38466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52"/>
              <p:cNvSpPr/>
              <p:nvPr/>
            </p:nvSpPr>
            <p:spPr>
              <a:xfrm>
                <a:off x="1523880" y="4227480"/>
                <a:ext cx="3808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53"/>
              <p:cNvSpPr/>
              <p:nvPr/>
            </p:nvSpPr>
            <p:spPr>
              <a:xfrm>
                <a:off x="1544040" y="4151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Text Box 56"/>
          <p:cNvSpPr/>
          <p:nvPr/>
        </p:nvSpPr>
        <p:spPr>
          <a:xfrm>
            <a:off x="5557320" y="3833640"/>
            <a:ext cx="358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remove 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both sides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61"/>
          <p:cNvGrpSpPr/>
          <p:nvPr/>
        </p:nvGrpSpPr>
        <p:grpSpPr>
          <a:xfrm>
            <a:off x="429480" y="4746600"/>
            <a:ext cx="4812120" cy="511560"/>
            <a:chOff x="429480" y="4746600"/>
            <a:chExt cx="4812120" cy="511560"/>
          </a:xfrm>
        </p:grpSpPr>
        <p:sp>
          <p:nvSpPr>
            <p:cNvPr id="471" name="Text Box 58"/>
            <p:cNvSpPr/>
            <p:nvPr/>
          </p:nvSpPr>
          <p:spPr>
            <a:xfrm>
              <a:off x="429480" y="4746600"/>
              <a:ext cx="181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7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59"/>
            <p:cNvSpPr/>
            <p:nvPr/>
          </p:nvSpPr>
          <p:spPr>
            <a:xfrm>
              <a:off x="2374920" y="4975200"/>
              <a:ext cx="76212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60"/>
            <p:cNvSpPr/>
            <p:nvPr/>
          </p:nvSpPr>
          <p:spPr>
            <a:xfrm>
              <a:off x="3287520" y="474804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6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146A3-23F1-4273-ABF1-3640A29E87EE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3"/>
          <p:cNvSpPr/>
          <p:nvPr/>
        </p:nvSpPr>
        <p:spPr>
          <a:xfrm>
            <a:off x="212760" y="59220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o make sure that you have the same number of each type of atom on both sides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4"/>
          <p:cNvGrpSpPr/>
          <p:nvPr/>
        </p:nvGrpSpPr>
        <p:grpSpPr>
          <a:xfrm>
            <a:off x="429480" y="2125800"/>
            <a:ext cx="4812120" cy="511560"/>
            <a:chOff x="429480" y="2125800"/>
            <a:chExt cx="4812120" cy="511560"/>
          </a:xfrm>
        </p:grpSpPr>
        <p:sp>
          <p:nvSpPr>
            <p:cNvPr id="476" name="Text Box 35"/>
            <p:cNvSpPr/>
            <p:nvPr/>
          </p:nvSpPr>
          <p:spPr>
            <a:xfrm>
              <a:off x="429480" y="2125800"/>
              <a:ext cx="181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7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36"/>
            <p:cNvSpPr/>
            <p:nvPr/>
          </p:nvSpPr>
          <p:spPr>
            <a:xfrm>
              <a:off x="2374920" y="2354400"/>
              <a:ext cx="76212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37"/>
            <p:cNvSpPr/>
            <p:nvPr/>
          </p:nvSpPr>
          <p:spPr>
            <a:xfrm>
              <a:off x="3287520" y="212724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6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48"/>
          <p:cNvGrpSpPr/>
          <p:nvPr/>
        </p:nvGrpSpPr>
        <p:grpSpPr>
          <a:xfrm>
            <a:off x="5252040" y="3843360"/>
            <a:ext cx="3644640" cy="1791720"/>
            <a:chOff x="5252040" y="3843360"/>
            <a:chExt cx="3644640" cy="1791720"/>
          </a:xfrm>
        </p:grpSpPr>
        <p:sp>
          <p:nvSpPr>
            <p:cNvPr id="480" name="Text Box 38"/>
            <p:cNvSpPr/>
            <p:nvPr/>
          </p:nvSpPr>
          <p:spPr>
            <a:xfrm>
              <a:off x="5252040" y="384336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React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39"/>
            <p:cNvSpPr/>
            <p:nvPr/>
          </p:nvSpPr>
          <p:spPr>
            <a:xfrm>
              <a:off x="7441920" y="3843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40"/>
            <p:cNvSpPr/>
            <p:nvPr/>
          </p:nvSpPr>
          <p:spPr>
            <a:xfrm>
              <a:off x="5334120" y="426096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41"/>
            <p:cNvSpPr/>
            <p:nvPr/>
          </p:nvSpPr>
          <p:spPr>
            <a:xfrm>
              <a:off x="5681520" y="433692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42"/>
            <p:cNvSpPr/>
            <p:nvPr/>
          </p:nvSpPr>
          <p:spPr>
            <a:xfrm>
              <a:off x="5500080" y="4756320"/>
              <a:ext cx="83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43"/>
            <p:cNvSpPr/>
            <p:nvPr/>
          </p:nvSpPr>
          <p:spPr>
            <a:xfrm>
              <a:off x="5483880" y="517536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44"/>
            <p:cNvSpPr/>
            <p:nvPr/>
          </p:nvSpPr>
          <p:spPr>
            <a:xfrm>
              <a:off x="7885080" y="433692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45"/>
            <p:cNvSpPr/>
            <p:nvPr/>
          </p:nvSpPr>
          <p:spPr>
            <a:xfrm>
              <a:off x="7703640" y="4756320"/>
              <a:ext cx="83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46"/>
            <p:cNvSpPr/>
            <p:nvPr/>
          </p:nvSpPr>
          <p:spPr>
            <a:xfrm>
              <a:off x="7687080" y="517536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47"/>
            <p:cNvSpPr/>
            <p:nvPr/>
          </p:nvSpPr>
          <p:spPr>
            <a:xfrm>
              <a:off x="5334120" y="560700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52"/>
          <p:cNvGrpSpPr/>
          <p:nvPr/>
        </p:nvGrpSpPr>
        <p:grpSpPr>
          <a:xfrm>
            <a:off x="552600" y="2622600"/>
            <a:ext cx="3975120" cy="459720"/>
            <a:chOff x="552600" y="2622600"/>
            <a:chExt cx="3975120" cy="459720"/>
          </a:xfrm>
        </p:grpSpPr>
        <p:sp>
          <p:nvSpPr>
            <p:cNvPr id="491" name="Text Box 50"/>
            <p:cNvSpPr/>
            <p:nvPr/>
          </p:nvSpPr>
          <p:spPr>
            <a:xfrm>
              <a:off x="552600" y="2622600"/>
              <a:ext cx="155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 (2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51"/>
            <p:cNvSpPr/>
            <p:nvPr/>
          </p:nvSpPr>
          <p:spPr>
            <a:xfrm>
              <a:off x="3902040" y="262260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Group 55"/>
          <p:cNvGrpSpPr/>
          <p:nvPr/>
        </p:nvGrpSpPr>
        <p:grpSpPr>
          <a:xfrm>
            <a:off x="464040" y="3098880"/>
            <a:ext cx="4638960" cy="459720"/>
            <a:chOff x="464040" y="3098880"/>
            <a:chExt cx="4638960" cy="459720"/>
          </a:xfrm>
        </p:grpSpPr>
        <p:sp>
          <p:nvSpPr>
            <p:cNvPr id="494" name="Text Box 53"/>
            <p:cNvSpPr/>
            <p:nvPr/>
          </p:nvSpPr>
          <p:spPr>
            <a:xfrm>
              <a:off x="464040" y="3098880"/>
              <a:ext cx="176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 (2 x 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54"/>
            <p:cNvSpPr/>
            <p:nvPr/>
          </p:nvSpPr>
          <p:spPr>
            <a:xfrm>
              <a:off x="3340440" y="3098880"/>
              <a:ext cx="176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 (6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58"/>
          <p:cNvGrpSpPr/>
          <p:nvPr/>
        </p:nvGrpSpPr>
        <p:grpSpPr>
          <a:xfrm>
            <a:off x="465840" y="3575160"/>
            <a:ext cx="4876560" cy="459720"/>
            <a:chOff x="465840" y="3575160"/>
            <a:chExt cx="4876560" cy="459720"/>
          </a:xfrm>
        </p:grpSpPr>
        <p:sp>
          <p:nvSpPr>
            <p:cNvPr id="497" name="Text Box 56"/>
            <p:cNvSpPr/>
            <p:nvPr/>
          </p:nvSpPr>
          <p:spPr>
            <a:xfrm>
              <a:off x="465840" y="3575160"/>
              <a:ext cx="177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 (7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57"/>
            <p:cNvSpPr/>
            <p:nvPr/>
          </p:nvSpPr>
          <p:spPr>
            <a:xfrm>
              <a:off x="3061440" y="3575160"/>
              <a:ext cx="228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 (4 x 2 + 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EA3F9-845F-44CE-8522-B8421F2C1470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396720" y="328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Example 3.12 p98 : Balance the following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1"/>
          <p:cNvSpPr/>
          <p:nvPr/>
        </p:nvSpPr>
        <p:spPr>
          <a:xfrm>
            <a:off x="8936640" y="65610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395280" y="1022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Nitrogen monoxide reacts with oxygen to form nitrogen dioxide and balance this rea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76960-843F-4CFE-A957-DBE4349EC5E8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323640" y="411120"/>
            <a:ext cx="8512200" cy="24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What is the coefficient of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when the equation is balanc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_  Al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 + _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</a:t>
            </a:r>
            <a:r>
              <a:rPr b="0" lang="en-US" sz="2400" spc="-1" strike="noStrike">
                <a:solidFill>
                  <a:srgbClr val="00007d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_  Al(OH)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+   3C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ooter Placeholder 1"/>
          <p:cNvSpPr/>
          <p:nvPr/>
        </p:nvSpPr>
        <p:spPr>
          <a:xfrm>
            <a:off x="3124080" y="6248520"/>
            <a:ext cx="330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560" y="3505320"/>
            <a:ext cx="8512200" cy="24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51720" indent="-35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What are  the coefficients of Al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,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and Al(OH)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respectively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when the equation is balanc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_  Al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 + _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</a:t>
            </a:r>
            <a:r>
              <a:rPr b="0" lang="en-US" sz="2400" spc="-1" strike="noStrike">
                <a:solidFill>
                  <a:srgbClr val="00007d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_  Al(OH)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+   3C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,1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,12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,24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,12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22200" y="350028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003A2-E2C9-4D8E-970C-B8486D125E3A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-181080" y="620640"/>
            <a:ext cx="95410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= number of m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mass (atom or molecu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molar mass (atomic mass or molecular ma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is the relation between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1258920" y="4076640"/>
                <a:ext cx="662472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BD4CE-7631-4C48-BEA3-8E5B453C340A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8 Amounts of Reactants and Produ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774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wo important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uch product will be formed from specific amount of reacta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.g. 6.0 g reactant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?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How much starting reactants must be used to obtain a specific amount of produ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e.g. ? reacta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6.0 g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4052F-0938-4A83-9FE2-1CBF752197A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4"/>
          <p:cNvSpPr/>
          <p:nvPr/>
        </p:nvSpPr>
        <p:spPr>
          <a:xfrm>
            <a:off x="611280" y="4221000"/>
            <a:ext cx="80769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ite balanced chemical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vert quantities of known substances into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coefficients in balanced equation to calculate the number of moles of the sought 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vert moles of sought quantity into desired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7" descr="03_08"/>
          <p:cNvPicPr/>
          <p:nvPr/>
        </p:nvPicPr>
        <p:blipFill>
          <a:blip r:embed="rId1"/>
          <a:srcRect l="0" t="3039" r="0" b="0"/>
          <a:stretch/>
        </p:blipFill>
        <p:spPr>
          <a:xfrm>
            <a:off x="2195640" y="620640"/>
            <a:ext cx="6553080" cy="327348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179280" y="476280"/>
            <a:ext cx="208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</a:rPr>
              <a:t>Mol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179280" y="1557360"/>
                <a:ext cx="1731960" cy="14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6EE40-673E-4541-B3A7-C46C5BA65749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13 p10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If 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856g of C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6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12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O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is consumed by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person over a certain period, what is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mass of CO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produc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468360" y="1303200"/>
                <a:ext cx="79214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67A75-45DD-42B8-9092-14FB24824EF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4358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balanced chemic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quantities of known substances into mol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grams of 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C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6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oles of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1258920" y="1628640"/>
                <a:ext cx="648000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2" name=""/>
          <p:cNvSpPr/>
          <p:nvPr/>
        </p:nvSpPr>
        <p:spPr>
          <a:xfrm>
            <a:off x="3564000" y="249228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Balanc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258920" y="4653000"/>
                <a:ext cx="583416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56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0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713EC-9768-4B49-B121-A15A9B9D04EA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How we get the Average Atomic M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erage atomic mass of natural carbo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00"/>
                </a:solidFill>
                <a:latin typeface="Arial"/>
              </a:rPr>
              <a:t>∑ </a:t>
            </a:r>
            <a:r>
              <a:rPr b="1" lang="en-GB" sz="2000" spc="-1" strike="noStrike">
                <a:solidFill>
                  <a:srgbClr val="006600"/>
                </a:solidFill>
                <a:latin typeface="Comic Sans MS"/>
              </a:rPr>
              <a:t>(The natural abundance x Atomic Mass) </a:t>
            </a:r>
            <a:r>
              <a:rPr b="1" lang="en-GB" sz="2000" spc="-1" strike="noStrike" baseline="-25000">
                <a:solidFill>
                  <a:srgbClr val="006600"/>
                </a:solidFill>
                <a:latin typeface="Comic Sans MS"/>
              </a:rPr>
              <a:t>for each isot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isotopes of Carbon are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&amp;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natural abundance of each isotope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98.90% &amp; 1.10%, resp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Average Atomic Mass of natural carbo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0.9890 x 12.00 amu)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12C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+ (0.0110 x 13.00335 amu)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13C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12.0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Notes: 98.90% = 98.90/100 = 0.9890; 1.10% = 1.10/100 = 0.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Notes: carbon is mainly </a:t>
            </a:r>
            <a:r>
              <a:rPr b="0" lang="en-GB" sz="2400" spc="-1" strike="noStrike" baseline="30000">
                <a:solidFill>
                  <a:srgbClr val="2009a7"/>
                </a:solidFill>
                <a:latin typeface="Comic Sans MS"/>
              </a:rPr>
              <a:t>12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C </a:t>
            </a:r>
            <a:r>
              <a:rPr b="0" lang="en-GB" sz="2400" spc="-1" strike="noStrike">
                <a:solidFill>
                  <a:srgbClr val="2009a7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the Average Atomic Mass is 12.01 amu </a:t>
            </a:r>
            <a:r>
              <a:rPr b="0" lang="en-GB" sz="2400" spc="-1" strike="noStrike">
                <a:solidFill>
                  <a:srgbClr val="2009a7"/>
                </a:solidFill>
                <a:latin typeface="Arial"/>
              </a:rPr>
              <a:t>→ 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closer to 12 amu than 13 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C1216-BFF8-4EE8-BD2D-13459487A9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coefficients in balanced equation to calculate the number of moles of the sought quantity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 ratio (from the balanced equation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 mole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C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6  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3200" spc="-1" strike="noStrike" baseline="-25000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6 mole of CO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4.754 mole 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? mole C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539640" y="4292640"/>
                <a:ext cx="799164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AB48B-F5AA-429D-AD51-DD0B2CFCEB6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67564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moles of sought quantity into desired uni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the moles of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ms of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mmary: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grams of C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oles of C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oles of C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grams of C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684360" y="2349360"/>
                <a:ext cx="7921440" cy="18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D499C-FBA5-4C4B-9661-EA33EAF6247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8036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3.1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4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 p10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Comic Sans MS"/>
              </a:rPr>
              <a:t>How many grams of Li are needed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Comic Sans MS"/>
              </a:rPr>
              <a:t>produce 9.89g of H</a:t>
            </a:r>
            <a:r>
              <a:rPr b="0" lang="en-GB" sz="36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36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a50021"/>
                </a:solidFill>
                <a:uFillTx/>
                <a:latin typeface="Comic Sans MS"/>
              </a:rPr>
              <a:t>Strate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grams of H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 of H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of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i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grams of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395280" y="1268280"/>
                <a:ext cx="84978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O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DE93E-DFD2-4B8C-99CC-FB3FE7BFE3C4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4358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balanced chemic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grams of 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2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oles of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492360" y="2282760"/>
            <a:ext cx="31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Balance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1706400" y="3860640"/>
                <a:ext cx="493884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9g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6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0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468360" y="1628640"/>
                <a:ext cx="820728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O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DFE3A-4548-473B-BEA5-00D4E16D6325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 ratio (from the balanced equation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s of 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2 mole of Li 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3200" spc="-1" strike="noStrike" baseline="-25000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 mole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?mole of Li 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4.927 mole H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755640" y="3141720"/>
                <a:ext cx="758340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7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4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1" name=""/>
          <p:cNvSpPr/>
          <p:nvPr/>
        </p:nvSpPr>
        <p:spPr>
          <a:xfrm>
            <a:off x="0" y="700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1187280" y="5084640"/>
                <a:ext cx="680436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4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1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3" name=""/>
          <p:cNvSpPr/>
          <p:nvPr/>
        </p:nvSpPr>
        <p:spPr>
          <a:xfrm>
            <a:off x="540000" y="4505400"/>
            <a:ext cx="77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the moles of Li → grams of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303B5-6A87-46B4-A97F-0EA7C0A6D214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7d"/>
                </a:solidFill>
                <a:uFillTx/>
                <a:latin typeface="Comic Sans MS"/>
              </a:rPr>
              <a:t>3.9 Limiting Reagent </a:t>
            </a:r>
            <a:r>
              <a:rPr b="1" lang="ar-SA" sz="4000" spc="-1" strike="noStrike" u="sng">
                <a:solidFill>
                  <a:srgbClr val="00007d"/>
                </a:solidFill>
                <a:uFillTx/>
                <a:latin typeface="Comic Sans MS"/>
              </a:rPr>
              <a:t>الكاشف المحد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imiting Reagent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reactant used up first in a reaction and thus determine the amount of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xcess Reagent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الكاشف الفائض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reactant present in quantities greater than necessary to react with the quantity of the limiting reagent (the one that is left at the end of the reac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miting reagent is in a reaction of more than one reacta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7D943-F4AB-4258-B455-14DAFC1E87C1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6960" y="387360"/>
            <a:ext cx="379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009a7"/>
                </a:solidFill>
                <a:uFillTx/>
                <a:latin typeface="Comic Sans MS"/>
              </a:rPr>
              <a:t>Limiting Reag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rcRect l="18790" t="2707" r="18790" b="0"/>
          <a:stretch/>
        </p:blipFill>
        <p:spPr>
          <a:xfrm>
            <a:off x="5045040" y="260280"/>
            <a:ext cx="2622600" cy="6553440"/>
          </a:xfrm>
          <a:prstGeom prst="rect">
            <a:avLst/>
          </a:prstGeom>
          <a:ln w="0">
            <a:noFill/>
          </a:ln>
        </p:spPr>
      </p:pic>
      <p:grpSp>
        <p:nvGrpSpPr>
          <p:cNvPr id="548" name=""/>
          <p:cNvGrpSpPr/>
          <p:nvPr/>
        </p:nvGrpSpPr>
        <p:grpSpPr>
          <a:xfrm>
            <a:off x="1191600" y="2360520"/>
            <a:ext cx="3009240" cy="510120"/>
            <a:chOff x="1191600" y="2360520"/>
            <a:chExt cx="3009240" cy="510120"/>
          </a:xfrm>
        </p:grpSpPr>
        <p:sp>
          <p:nvSpPr>
            <p:cNvPr id="549" name=""/>
            <p:cNvSpPr/>
            <p:nvPr/>
          </p:nvSpPr>
          <p:spPr>
            <a:xfrm>
              <a:off x="1191600" y="2360520"/>
              <a:ext cx="3009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NO + 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   2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562120" y="25812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762840" y="340848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is the limiting re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394240" y="4286160"/>
            <a:ext cx="1104840" cy="1206360"/>
            <a:chOff x="5394240" y="4286160"/>
            <a:chExt cx="1104840" cy="1206360"/>
          </a:xfrm>
        </p:grpSpPr>
        <p:sp>
          <p:nvSpPr>
            <p:cNvPr id="553" name=""/>
            <p:cNvSpPr/>
            <p:nvPr/>
          </p:nvSpPr>
          <p:spPr>
            <a:xfrm>
              <a:off x="6080040" y="4286160"/>
              <a:ext cx="419040" cy="380880"/>
            </a:xfrm>
            <a:prstGeom prst="ellipse">
              <a:avLst/>
            </a:prstGeom>
            <a:noFill/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94240" y="4705200"/>
              <a:ext cx="419040" cy="380880"/>
            </a:xfrm>
            <a:prstGeom prst="ellipse">
              <a:avLst/>
            </a:prstGeom>
            <a:noFill/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902200" y="5111640"/>
              <a:ext cx="419400" cy="380880"/>
            </a:xfrm>
            <a:prstGeom prst="ellipse">
              <a:avLst/>
            </a:prstGeom>
            <a:noFill/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827280" y="4457880"/>
            <a:ext cx="360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cc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9999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99cc"/>
                </a:solidFill>
                <a:latin typeface="Comic Sans MS"/>
              </a:rPr>
              <a:t> is the excess re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4720" y="109872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ctant used up first in the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B5C41-0D9A-4D59-BEEF-03C62F60A5DD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Questions in Limiting Reag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First: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 we have to determine which reactant is the limiting reagent and which is the excess reag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econd: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after we know which one is the limiting reagent, we could  determine the amount of the produc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2009a7"/>
                </a:solidFill>
                <a:latin typeface="Comic Sans MS"/>
              </a:rPr>
              <a:t>Third:</a:t>
            </a: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 after we know the excess reagent, we could determine how much excess of it is left at the end of the reaction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5387C-B85B-41BE-83E4-9D3AE8E14FEA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3.15 P10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637.2g of NH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re treated with 1142g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Which of the two reactants is the limiting reag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Calculate the mass of (NH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CO for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uch excess reagent (in grams) is left at the end of the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539640" y="1125360"/>
                <a:ext cx="79200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C2E1E-E682-4B9F-B50C-4C5AD0163D2C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Which of the two reactants is the limiting reagent? </a:t>
            </a:r>
            <a:r>
              <a:rPr b="0" lang="ar-SA" sz="3200" spc="-1" strike="noStrike">
                <a:solidFill>
                  <a:srgbClr val="9900cc"/>
                </a:solidFill>
                <a:latin typeface="Comic Sans MS"/>
              </a:rPr>
              <a:t>المتفاعل اللذي يعطي </a:t>
            </a:r>
            <a:r>
              <a:rPr b="0" lang="ar-SA" sz="3200" spc="-1" strike="noStrike" u="sng">
                <a:solidFill>
                  <a:srgbClr val="9900cc"/>
                </a:solidFill>
                <a:uFillTx/>
                <a:latin typeface="Comic Sans MS"/>
              </a:rPr>
              <a:t>مولات اقل من الناتج</a:t>
            </a:r>
            <a:r>
              <a:rPr b="0" lang="ar-SA" sz="3200" spc="-1" strike="noStrike">
                <a:solidFill>
                  <a:srgbClr val="9900cc"/>
                </a:solidFill>
                <a:latin typeface="Comic Sans MS"/>
              </a:rPr>
              <a:t> هو الكاشف المحدد, لانه يحد من كميه الناتج التي يمكن ان تتكون</a:t>
            </a:r>
            <a:r>
              <a:rPr b="0" lang="ar-SA" sz="32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or the first reactant NH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637.2 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vert to m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826920" y="4221000"/>
                <a:ext cx="6409080" cy="250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3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6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788000" y="2924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تحول الى مو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E74EB-4C1D-4370-9890-993CB2FE44E8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3640" cy="6032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164360" y="-27000"/>
            <a:ext cx="1979640" cy="863640"/>
          </a:xfrm>
          <a:prstGeom prst="borderCallout1">
            <a:avLst>
              <a:gd name="adj1" fmla="val 18750"/>
              <a:gd name="adj2" fmla="val -8333"/>
              <a:gd name="adj3" fmla="val 186763"/>
              <a:gd name="adj4" fmla="val -2798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verage atomic mass (12.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58ABB-F3C1-48BD-8C39-D7D1F572F5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ole rat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 moles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→ 1 mole of (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7.416moles of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→  ?n (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395280" y="2924280"/>
                <a:ext cx="835344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6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67921-B14F-45C9-B64F-A2C05293CEDC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or the second reactant C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1. 1142 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vert to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Mole rat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of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5.949 mol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n 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484360" y="1628640"/>
                <a:ext cx="388800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42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9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1692360" y="4653000"/>
                <a:ext cx="58323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9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324000" y="5661000"/>
            <a:ext cx="81356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the limiting reagent is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ecause it produces a smaller amount of (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6000" y="549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تحول الى مول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5578D-2BE8-4955-976D-9C8A1A3803E2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75000"/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Calculate the mass of (NH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CO for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have 18.71 mol of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  using 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limiting reag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vert to 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611280" y="2368440"/>
                <a:ext cx="7777080" cy="16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24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D9BCD-B942-490D-8529-412AA6F3573B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686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SzPct val="75000"/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ow much excess reagent (in grams) is left at the end of the rea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Excess reagent is CO</a:t>
            </a:r>
            <a:r>
              <a:rPr b="1" lang="en-GB" sz="32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ams of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eft = initial grams – reacted 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1. moles of CO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left = initial moles – reacted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2.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left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gram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le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Initial moles of CO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25.95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Reacted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(calculated as follow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1B509-6282-48BC-A7EF-18916CD39580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Reacted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(calculated as follow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 that 18.71 mol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 is p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1 mol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n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8.71 mol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THUS: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reacted is 18.71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1835280" y="2708280"/>
                <a:ext cx="590544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66095-30BB-47E1-AB79-EB91416F9475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s of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eft = initial moles – reacted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= 25.95 – 18.71 = 7.24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2.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left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gram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Thus: the mas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remaining (left) = 319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755640" y="2708280"/>
                <a:ext cx="741672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9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0C82D-630F-40A9-B47D-7B42610744A0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Box 2"/>
          <p:cNvSpPr/>
          <p:nvPr/>
        </p:nvSpPr>
        <p:spPr>
          <a:xfrm>
            <a:off x="395280" y="404640"/>
            <a:ext cx="7848720" cy="30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.W. # 1: When 22.0 g NaCl and 21.0 g H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are mixed and react according to the   equation below, which is the limiting reagent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2NaCl + H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Na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+ 2HCl 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b)   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c)     N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d)     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e)     No reagent is limi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-36360" y="3573360"/>
          <a:ext cx="8153280" cy="3048120"/>
        </p:xfrm>
        <a:graphic>
          <a:graphicData uri="http://schemas.openxmlformats.org/drawingml/2006/table">
            <a:tbl>
              <a:tblPr/>
              <a:tblGrid>
                <a:gridCol w="626760"/>
                <a:gridCol w="522360"/>
                <a:gridCol w="7004160"/>
              </a:tblGrid>
              <a:tr h="191340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.W. # 2: Consider the combustion of carbon monoxide (CO) in oxygen ga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CO(</a:t>
                      </a:r>
                      <a:r>
                        <a:rPr b="0" i="1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+ O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 2CO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Starting with 3.60 moles of CO, calculate the number of moles of CO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 produced </a:t>
                      </a:r>
                      <a:r>
                        <a:rPr b="0" lang="en-US" sz="2000" spc="-1" strike="noStrike" u="sng">
                          <a:solidFill>
                            <a:srgbClr val="006600"/>
                          </a:solidFill>
                          <a:uFillTx/>
                          <a:latin typeface="Comic Sans MS"/>
                          <a:ea typeface="Times New Roman"/>
                        </a:rPr>
                        <a:t>if there is enough oxygen gas to react with all of the C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.2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4.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3.6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8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6" name=""/>
          <p:cNvSpPr/>
          <p:nvPr/>
        </p:nvSpPr>
        <p:spPr>
          <a:xfrm flipH="1">
            <a:off x="324000" y="342900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51280" y="513252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he limiting Reagent is 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6051B-A8C0-49B7-8A0C-4D2E9CA75452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240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10 Reaction Y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179280" y="1197000"/>
            <a:ext cx="8521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oretical Yield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mount of product that would result if all the limiting reagent rea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3"/>
          <p:cNvSpPr/>
          <p:nvPr/>
        </p:nvSpPr>
        <p:spPr>
          <a:xfrm>
            <a:off x="250920" y="341964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ctual Yield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mount of product actually obtained from a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11"/>
          <p:cNvGrpSpPr/>
          <p:nvPr/>
        </p:nvGrpSpPr>
        <p:grpSpPr>
          <a:xfrm>
            <a:off x="1779480" y="4587840"/>
            <a:ext cx="5089320" cy="941400"/>
            <a:chOff x="1779480" y="4587840"/>
            <a:chExt cx="5089320" cy="941400"/>
          </a:xfrm>
        </p:grpSpPr>
        <p:sp>
          <p:nvSpPr>
            <p:cNvPr id="592" name="Text Box 4"/>
            <p:cNvSpPr/>
            <p:nvPr/>
          </p:nvSpPr>
          <p:spPr>
            <a:xfrm>
              <a:off x="1779480" y="4829400"/>
              <a:ext cx="185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% Yield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3" name="Group 9"/>
            <p:cNvGrpSpPr/>
            <p:nvPr/>
          </p:nvGrpSpPr>
          <p:grpSpPr>
            <a:xfrm>
              <a:off x="3696120" y="4587840"/>
              <a:ext cx="2379240" cy="941400"/>
              <a:chOff x="3696120" y="4587840"/>
              <a:chExt cx="2379240" cy="941400"/>
            </a:xfrm>
          </p:grpSpPr>
          <p:sp>
            <p:nvSpPr>
              <p:cNvPr id="594" name="Text Box 5"/>
              <p:cNvSpPr/>
              <p:nvPr/>
            </p:nvSpPr>
            <p:spPr>
              <a:xfrm>
                <a:off x="4019400" y="4587840"/>
                <a:ext cx="142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ctual Yie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Text Box 6"/>
              <p:cNvSpPr/>
              <p:nvPr/>
            </p:nvSpPr>
            <p:spPr>
              <a:xfrm>
                <a:off x="3696120" y="5160960"/>
                <a:ext cx="1957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heoretical Yie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8"/>
              <p:cNvSpPr/>
              <p:nvPr/>
            </p:nvSpPr>
            <p:spPr>
              <a:xfrm>
                <a:off x="3713400" y="5102280"/>
                <a:ext cx="2361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Text Box 10"/>
            <p:cNvSpPr/>
            <p:nvPr/>
          </p:nvSpPr>
          <p:spPr>
            <a:xfrm>
              <a:off x="6114960" y="4842000"/>
              <a:ext cx="75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 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Text Box 3"/>
          <p:cNvSpPr/>
          <p:nvPr/>
        </p:nvSpPr>
        <p:spPr>
          <a:xfrm>
            <a:off x="789120" y="58626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Actual Yield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 is  always le</a:t>
            </a: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ss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D4590-2E62-4A77-BBAC-197BA05E7050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240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10 Reaction Y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"/>
          <p:cNvSpPr/>
          <p:nvPr/>
        </p:nvSpPr>
        <p:spPr>
          <a:xfrm>
            <a:off x="179280" y="1197000"/>
            <a:ext cx="852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heoretical Yield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s the amount of product that would result if all the limiting reagent react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Limiting regent mass 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moles of limiting reagent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→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moles of product 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→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grams of product (theoretical yield of the produc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39A53-B5C7-4D0E-8D78-20F1D9C012F1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2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16 p10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3.54 x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TiCl</a:t>
            </a:r>
            <a:r>
              <a:rPr b="0" lang="en-GB" sz="32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are reacted with 1.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x 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M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Calculate the theoretical yield of Ti in 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Calculate the percent yield if 7.91 x 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Ti are actually obta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395280" y="1066680"/>
                <a:ext cx="799308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iCl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T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gC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96517-20BA-411F-9506-4EE36CB49C5A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07T09:20:31Z</dcterms:modified>
  <cp:revision>464</cp:revision>
  <dc:subject/>
  <dc:title>General Chemistry CHEM 110</dc:title>
</cp:coreProperties>
</file>